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6984-0698-4737-B394-C188DA6D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7B2-E04A-4169-AB1D-89B2C8A7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FE6-7455-4D24-A9AA-51F248D7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1B10-6EF7-455A-A199-2DB2271A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A1CF-7085-4B6C-AB86-E48AE5A8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3AEC-8D76-4BE3-ABA3-DAC320C2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F1B-F0C8-493C-BF5F-4C3565A6A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74C0E-C6EC-44B0-BD1C-678281F2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AADC9-853D-4C5A-B2E8-0EF9A705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C61C-EE26-4BD3-A742-331161E14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0A2D-EC48-4FFC-ABF7-B299142A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AFFC-7FDC-43E4-9647-6D1E2A46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B83-0901-4B74-B58C-B4F0EF2E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1BB9D-321A-4E35-B135-FACB7E40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A1B-C58D-4318-8C8A-F08E72C1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6CCC-F6BE-4E0D-BFAF-F03A9C4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5F8C-1E03-4DFB-8753-791BA5D4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12D7-B8E8-4F59-ACC7-A9F961D9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867E0-1612-4352-928A-220A15039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1C3E-CB27-4AB6-BE3B-F8AA5E85E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A6636-DC65-4AFB-8573-55A298EE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3C17-6C97-4434-BE70-5A04A825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87A26-6BE3-491D-BAF9-2FB83A7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F021-FF2C-4137-91C3-706B2DDE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17DE3A-BA86-4860-92BF-8373473C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F4347-3B8E-40C2-A25D-82151EF64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5224C-E734-4EB7-BD99-930A873E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A1888-27C1-4029-A27E-A17F16D7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18568-51C2-4644-BA03-444FC5BC1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826DC-24EA-4AE9-9622-CA20119C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80971-74F1-4C70-88A5-C29D93FA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D713E-7AC1-4ED4-A10B-E5F13836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44D7-A029-48DF-BDBC-10B13DB8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E9FF1-2150-40E9-AE54-5B6E2444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49C5B-0102-4E6C-8F99-E137C6D6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F154A-F695-4AB5-B80A-0131B637F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A0FE2-9411-4E6D-908B-9BE36996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959A0-F310-4C6C-ADAC-95C23B2F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F5C647-63B9-4E91-B20A-C7FD2A95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006B-4ADF-4004-9C9F-41FE65B4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51C52-8F17-46CC-B4C7-4CD4B9FC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BC347-A66E-4F3E-A33E-63614050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79A6-ED6F-4D2A-BF6B-7C633557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9F5-C22F-4C3F-9AAC-69830D0A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0B6F1-0022-4EA9-9AAB-5E00A437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77859-AB76-4060-9B7C-9EBCD488D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5950-1CC1-42C5-9499-B350FC3A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E78EA-E957-469B-B9FA-DCBBE79B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48371-689C-4F85-A998-CEBC44F9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91864-A24A-4718-82A7-F790CE7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609480" y="129960"/>
            <a:ext cx="1097280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034E9-1C22-47A5-992B-4CDBDCF4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C9A44-2F48-4EA9-9724-597A6042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7B82B-FEAE-4E23-A0F9-33BE3180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34870-7452-49F0-B52F-88A31B57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C8E8-C40A-4542-834E-64F0D729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7EFC-5119-4572-8DF2-9202E69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F2F29-2EAC-42C7-A038-AB49A407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1964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29800" y="142092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0948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431964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8029800" y="3971160"/>
            <a:ext cx="35330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B526D-6887-48A5-8DB4-FC3F0525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7116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25BF-1801-4442-83D8-B6DC76D4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420920"/>
            <a:ext cx="535464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71160"/>
            <a:ext cx="10972800" cy="23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35A-A05E-4433-92F4-EF729A6E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513480"/>
            <a:ext cx="284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FD3C-A734-4899-96C6-6390F3B53B6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513480"/>
            <a:ext cx="3861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513480"/>
            <a:ext cx="284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0DA3-B371-4834-8EB4-C162DACE49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"/>
          <p:cNvGrpSpPr/>
          <p:nvPr/>
        </p:nvGrpSpPr>
        <p:grpSpPr>
          <a:xfrm>
            <a:off x="892080" y="1054080"/>
            <a:ext cx="10566360" cy="360"/>
            <a:chOff x="892080" y="1054080"/>
            <a:chExt cx="10566360" cy="360"/>
          </a:xfrm>
        </p:grpSpPr>
        <p:sp>
          <p:nvSpPr>
            <p:cNvPr id="80" name="Line 4"/>
            <p:cNvSpPr/>
            <p:nvPr/>
          </p:nvSpPr>
          <p:spPr>
            <a:xfrm>
              <a:off x="892080" y="1054080"/>
              <a:ext cx="1056636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 txBox="1"/>
            <p:nvPr/>
          </p:nvSpPr>
          <p:spPr>
            <a:xfrm>
              <a:off x="892080" y="1054080"/>
              <a:ext cx="1056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903240" y="1054080"/>
            <a:ext cx="2060640" cy="360"/>
            <a:chOff x="903240" y="1054080"/>
            <a:chExt cx="2060640" cy="360"/>
          </a:xfrm>
        </p:grpSpPr>
        <p:sp>
          <p:nvSpPr>
            <p:cNvPr id="83" name="Line 5"/>
            <p:cNvSpPr/>
            <p:nvPr/>
          </p:nvSpPr>
          <p:spPr>
            <a:xfrm>
              <a:off x="903240" y="1054080"/>
              <a:ext cx="2060640" cy="0"/>
            </a:xfrm>
            <a:prstGeom prst="line">
              <a:avLst/>
            </a:prstGeom>
            <a:ln w="28440">
              <a:solidFill>
                <a:srgbClr val="16bc9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903240" y="1054080"/>
              <a:ext cx="2060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609120" y="6513480"/>
            <a:ext cx="284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7534-63C1-47C9-8C86-4ACA504B31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4165200" y="6513480"/>
            <a:ext cx="3861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8737560" y="6513480"/>
            <a:ext cx="284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6684-F39A-4551-8E65-60897F7FE7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2"/>
          <p:cNvSpPr/>
          <p:nvPr/>
        </p:nvSpPr>
        <p:spPr>
          <a:xfrm rot="2160000">
            <a:off x="5196960" y="1439640"/>
            <a:ext cx="1797120" cy="1796760"/>
          </a:xfrm>
          <a:prstGeom prst="ellipse">
            <a:avLst/>
          </a:prstGeom>
          <a:solidFill>
            <a:srgbClr val="ff9934"/>
          </a:solidFill>
          <a:ln w="0">
            <a:noFill/>
          </a:ln>
          <a:effectLst>
            <a:outerShdw dist="17819" dir="2700000" blurRad="0" rotWithShape="0">
              <a:srgbClr val="995c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609120" y="6513480"/>
            <a:ext cx="284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D6BC-04E1-48F7-B8E2-C0C93BB295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4165200" y="6513480"/>
            <a:ext cx="3861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8737560" y="6513480"/>
            <a:ext cx="284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AA92-C14B-462F-97AA-65E4FCB34E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609120" y="6559560"/>
            <a:ext cx="284508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D631-761F-4A4D-A4AC-19AF94E4BE7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4165200" y="6559560"/>
            <a:ext cx="386100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8737560" y="6559560"/>
            <a:ext cx="2844720" cy="24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361C7-B5B1-4DCC-8442-45C6047B56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895320" y="1101600"/>
            <a:ext cx="10598040" cy="360"/>
            <a:chOff x="895320" y="1101600"/>
            <a:chExt cx="10598040" cy="360"/>
          </a:xfrm>
        </p:grpSpPr>
        <p:sp>
          <p:nvSpPr>
            <p:cNvPr id="210" name="Line 4"/>
            <p:cNvSpPr/>
            <p:nvPr/>
          </p:nvSpPr>
          <p:spPr>
            <a:xfrm>
              <a:off x="895320" y="1101600"/>
              <a:ext cx="10598040" cy="0"/>
            </a:xfrm>
            <a:prstGeom prst="line">
              <a:avLst/>
            </a:prstGeom>
            <a:ln w="28440">
              <a:solidFill>
                <a:srgbClr val="e7e6e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895320" y="1101600"/>
              <a:ext cx="10598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915840" y="1101600"/>
            <a:ext cx="1533600" cy="360"/>
            <a:chOff x="915840" y="1101600"/>
            <a:chExt cx="1533600" cy="360"/>
          </a:xfrm>
        </p:grpSpPr>
        <p:sp>
          <p:nvSpPr>
            <p:cNvPr id="213" name="Line 5"/>
            <p:cNvSpPr/>
            <p:nvPr/>
          </p:nvSpPr>
          <p:spPr>
            <a:xfrm>
              <a:off x="915840" y="1101600"/>
              <a:ext cx="1533600" cy="0"/>
            </a:xfrm>
            <a:prstGeom prst="line">
              <a:avLst/>
            </a:prstGeom>
            <a:ln w="28440">
              <a:solidFill>
                <a:srgbClr val="dd634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 txBox="1"/>
            <p:nvPr/>
          </p:nvSpPr>
          <p:spPr>
            <a:xfrm>
              <a:off x="915840" y="1101600"/>
              <a:ext cx="1533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9960"/>
            <a:ext cx="109728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546a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09480" y="1420920"/>
            <a:ext cx="109728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2" marL="12002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3" marL="16574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4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5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lvl="6" marL="21146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3"/>
          </p:nvPr>
        </p:nvSpPr>
        <p:spPr>
          <a:xfrm>
            <a:off x="609120" y="6513480"/>
            <a:ext cx="284508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9B0A-6BAB-40E0-B144-7C1EC839719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4"/>
          </p:nvPr>
        </p:nvSpPr>
        <p:spPr>
          <a:xfrm>
            <a:off x="4165200" y="6513480"/>
            <a:ext cx="386100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5"/>
          </p:nvPr>
        </p:nvSpPr>
        <p:spPr>
          <a:xfrm>
            <a:off x="8737560" y="6513480"/>
            <a:ext cx="2844720" cy="28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79115-6037-4DAC-8E06-3C0FAE7F1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houfei.3ayj.com/fees/experience.aspx?ppt" TargetMode="External"/><Relationship Id="rId2" Type="http://schemas.openxmlformats.org/officeDocument/2006/relationships/hyperlink" Target="http://shoufei.3ayj.com/fees/experience.aspx?ppt" TargetMode="External"/><Relationship Id="rId3" Type="http://schemas.openxmlformats.org/officeDocument/2006/relationships/hyperlink" Target="http://www.3ashop.cn/qq?ref=ppt" TargetMode="External"/><Relationship Id="rId4" Type="http://schemas.openxmlformats.org/officeDocument/2006/relationships/hyperlink" Target="http://www.3ashop.cn/qq?ref=ppt" TargetMode="External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文本框 3"/>
          <p:cNvSpPr/>
          <p:nvPr/>
        </p:nvSpPr>
        <p:spPr>
          <a:xfrm>
            <a:off x="4178160" y="4140360"/>
            <a:ext cx="42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幼教收费系统网络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4" descr="3A幼教2"/>
          <p:cNvPicPr/>
          <p:nvPr/>
        </p:nvPicPr>
        <p:blipFill>
          <a:blip r:embed="rId1"/>
          <a:stretch/>
        </p:blipFill>
        <p:spPr>
          <a:xfrm>
            <a:off x="4830840" y="2028960"/>
            <a:ext cx="250812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收费统计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759960" y="1703160"/>
            <a:ext cx="1069812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收费人、项目、日期一键查询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1" name="图片 5" descr=""/>
          <p:cNvPicPr/>
          <p:nvPr/>
        </p:nvPicPr>
        <p:blipFill>
          <a:blip r:embed="rId1"/>
          <a:stretch/>
        </p:blipFill>
        <p:spPr>
          <a:xfrm>
            <a:off x="177840" y="3206880"/>
            <a:ext cx="117093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项目统计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58520" y="1347480"/>
            <a:ext cx="10699560" cy="13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已交人数、已交金额、未交人数统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交和未交人员胸有成竹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4" name="图片 3" descr=""/>
          <p:cNvPicPr/>
          <p:nvPr/>
        </p:nvPicPr>
        <p:blipFill>
          <a:blip r:embed="rId1"/>
          <a:stretch/>
        </p:blipFill>
        <p:spPr>
          <a:xfrm>
            <a:off x="517680" y="3124080"/>
            <a:ext cx="112014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费用明细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58520" y="1500120"/>
            <a:ext cx="10699560" cy="13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显示所有项目的收费明细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论人员变动实时显示最新金额和状态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97" name="图片 3" descr=""/>
          <p:cNvPicPr/>
          <p:nvPr/>
        </p:nvPicPr>
        <p:blipFill>
          <a:blip r:embed="rId1"/>
          <a:stretch/>
        </p:blipFill>
        <p:spPr>
          <a:xfrm>
            <a:off x="682560" y="3286080"/>
            <a:ext cx="11007720" cy="42552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4" descr=""/>
          <p:cNvPicPr/>
          <p:nvPr/>
        </p:nvPicPr>
        <p:blipFill>
          <a:blip r:embed="rId2"/>
          <a:stretch/>
        </p:blipFill>
        <p:spPr>
          <a:xfrm>
            <a:off x="684360" y="3713040"/>
            <a:ext cx="10988640" cy="2227320"/>
          </a:xfrm>
          <a:prstGeom prst="rect">
            <a:avLst/>
          </a:prstGeom>
          <a:ln w="3240">
            <a:solidFill>
              <a:srgbClr val="d9d9d9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打印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850680" y="1369800"/>
            <a:ext cx="10699560" cy="12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边收费边打印，免去您手开收据的过程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支持多种规格打印机与打印纸，无需额外新增打印设备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01" name="图片 3" descr=""/>
          <p:cNvPicPr/>
          <p:nvPr/>
        </p:nvPicPr>
        <p:blipFill>
          <a:blip r:embed="rId1"/>
          <a:stretch/>
        </p:blipFill>
        <p:spPr>
          <a:xfrm>
            <a:off x="614520" y="2708280"/>
            <a:ext cx="1113444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优势对比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pic>
        <p:nvPicPr>
          <p:cNvPr id="303" name="图片 3" descr="图片1"/>
          <p:cNvPicPr/>
          <p:nvPr/>
        </p:nvPicPr>
        <p:blipFill>
          <a:blip r:embed="rId1"/>
          <a:stretch/>
        </p:blipFill>
        <p:spPr>
          <a:xfrm>
            <a:off x="2293920" y="1351080"/>
            <a:ext cx="7935840" cy="51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功能对比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pic>
        <p:nvPicPr>
          <p:cNvPr id="305" name="图片 6" descr=""/>
          <p:cNvPicPr/>
          <p:nvPr/>
        </p:nvPicPr>
        <p:blipFill>
          <a:blip r:embed="rId1"/>
          <a:stretch/>
        </p:blipFill>
        <p:spPr>
          <a:xfrm>
            <a:off x="6243480" y="1674720"/>
            <a:ext cx="5857920" cy="86688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7" descr=""/>
          <p:cNvPicPr/>
          <p:nvPr/>
        </p:nvPicPr>
        <p:blipFill>
          <a:blip r:embed="rId2"/>
          <a:stretch/>
        </p:blipFill>
        <p:spPr>
          <a:xfrm>
            <a:off x="6235560" y="2548080"/>
            <a:ext cx="5875560" cy="343836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8" descr=""/>
          <p:cNvPicPr/>
          <p:nvPr/>
        </p:nvPicPr>
        <p:blipFill>
          <a:blip r:embed="rId3"/>
          <a:stretch/>
        </p:blipFill>
        <p:spPr>
          <a:xfrm>
            <a:off x="230040" y="1670040"/>
            <a:ext cx="5877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更多功能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1225440" y="133992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生收费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需等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76"/>
          <p:cNvSpPr/>
          <p:nvPr/>
        </p:nvSpPr>
        <p:spPr>
          <a:xfrm>
            <a:off x="1225440" y="22161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金非现金同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80"/>
          <p:cNvSpPr/>
          <p:nvPr/>
        </p:nvSpPr>
        <p:spPr>
          <a:xfrm>
            <a:off x="1225440" y="313704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费快速打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184"/>
          <p:cNvSpPr/>
          <p:nvPr/>
        </p:nvSpPr>
        <p:spPr>
          <a:xfrm>
            <a:off x="1225440" y="398448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欠费自动计算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88"/>
          <p:cNvSpPr/>
          <p:nvPr/>
        </p:nvSpPr>
        <p:spPr>
          <a:xfrm>
            <a:off x="1225440" y="487368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查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92"/>
          <p:cNvSpPr/>
          <p:nvPr/>
        </p:nvSpPr>
        <p:spPr>
          <a:xfrm>
            <a:off x="1225440" y="57117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意金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灵活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11"/>
          <p:cNvSpPr/>
          <p:nvPr/>
        </p:nvSpPr>
        <p:spPr>
          <a:xfrm>
            <a:off x="3911760" y="133992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批量收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12"/>
          <p:cNvSpPr/>
          <p:nvPr/>
        </p:nvSpPr>
        <p:spPr>
          <a:xfrm>
            <a:off x="3911760" y="22161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欠费与补交记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3"/>
          <p:cNvSpPr/>
          <p:nvPr/>
        </p:nvSpPr>
        <p:spPr>
          <a:xfrm>
            <a:off x="3911760" y="313704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月和按学期收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4"/>
          <p:cNvSpPr/>
          <p:nvPr/>
        </p:nvSpPr>
        <p:spPr>
          <a:xfrm>
            <a:off x="3911760" y="398448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学期收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5"/>
          <p:cNvSpPr/>
          <p:nvPr/>
        </p:nvSpPr>
        <p:spPr>
          <a:xfrm>
            <a:off x="3911760" y="487368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构查询幼儿园收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16"/>
          <p:cNvSpPr/>
          <p:nvPr/>
        </p:nvSpPr>
        <p:spPr>
          <a:xfrm>
            <a:off x="3911760" y="57117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统计项目人数金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7"/>
          <p:cNvSpPr/>
          <p:nvPr/>
        </p:nvSpPr>
        <p:spPr>
          <a:xfrm>
            <a:off x="6599160" y="133992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收预交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18"/>
          <p:cNvSpPr/>
          <p:nvPr/>
        </p:nvSpPr>
        <p:spPr>
          <a:xfrm>
            <a:off x="6599160" y="22161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交费自动减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9"/>
          <p:cNvSpPr/>
          <p:nvPr/>
        </p:nvSpPr>
        <p:spPr>
          <a:xfrm>
            <a:off x="6599160" y="313704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完美适配打印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20"/>
          <p:cNvSpPr/>
          <p:nvPr/>
        </p:nvSpPr>
        <p:spPr>
          <a:xfrm>
            <a:off x="6599160" y="398448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帐号权限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21"/>
          <p:cNvSpPr/>
          <p:nvPr/>
        </p:nvSpPr>
        <p:spPr>
          <a:xfrm>
            <a:off x="6599160" y="4873680"/>
            <a:ext cx="203832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打印模版自定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22"/>
          <p:cNvSpPr/>
          <p:nvPr/>
        </p:nvSpPr>
        <p:spPr>
          <a:xfrm>
            <a:off x="6599160" y="5711760"/>
            <a:ext cx="203832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欠费通知催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23"/>
          <p:cNvSpPr/>
          <p:nvPr/>
        </p:nvSpPr>
        <p:spPr>
          <a:xfrm>
            <a:off x="9285120" y="1339920"/>
            <a:ext cx="203868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退费与考勤对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4"/>
          <p:cNvSpPr/>
          <p:nvPr/>
        </p:nvSpPr>
        <p:spPr>
          <a:xfrm>
            <a:off x="9285120" y="2216160"/>
            <a:ext cx="203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报名无缝对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5"/>
          <p:cNvSpPr/>
          <p:nvPr/>
        </p:nvSpPr>
        <p:spPr>
          <a:xfrm>
            <a:off x="9285120" y="3137040"/>
            <a:ext cx="203868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班级变动追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6"/>
          <p:cNvSpPr/>
          <p:nvPr/>
        </p:nvSpPr>
        <p:spPr>
          <a:xfrm>
            <a:off x="9285120" y="3984480"/>
            <a:ext cx="203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定义退费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7"/>
          <p:cNvSpPr/>
          <p:nvPr/>
        </p:nvSpPr>
        <p:spPr>
          <a:xfrm>
            <a:off x="9285120" y="4873680"/>
            <a:ext cx="2038680" cy="6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定义时间段查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8"/>
          <p:cNvSpPr/>
          <p:nvPr/>
        </p:nvSpPr>
        <p:spPr>
          <a:xfrm>
            <a:off x="9285120" y="5711760"/>
            <a:ext cx="2038680" cy="622440"/>
          </a:xfrm>
          <a:prstGeom prst="rect">
            <a:avLst/>
          </a:prstGeom>
          <a:solidFill>
            <a:srgbClr val="ffffff"/>
          </a:solidFill>
          <a:ln w="1260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班级人员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联系方式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pic>
        <p:nvPicPr>
          <p:cNvPr id="334" name="矩形: 圆角 2" descr=""/>
          <p:cNvPicPr/>
          <p:nvPr/>
        </p:nvPicPr>
        <p:blipFill>
          <a:blip r:embed="rId1"/>
          <a:stretch/>
        </p:blipFill>
        <p:spPr>
          <a:xfrm>
            <a:off x="1695600" y="1525680"/>
            <a:ext cx="8615160" cy="4290840"/>
          </a:xfrm>
          <a:prstGeom prst="rect">
            <a:avLst/>
          </a:prstGeom>
          <a:ln w="0">
            <a:noFill/>
          </a:ln>
        </p:spPr>
      </p:pic>
      <p:sp>
        <p:nvSpPr>
          <p:cNvPr id="335" name="文本框 3"/>
          <p:cNvSpPr/>
          <p:nvPr/>
        </p:nvSpPr>
        <p:spPr>
          <a:xfrm>
            <a:off x="2316240" y="3843360"/>
            <a:ext cx="16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3A</a:t>
            </a:r>
            <a:r>
              <a:rPr b="0" lang="zh-CN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幼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直接连接符 6" descr=""/>
          <p:cNvPicPr/>
          <p:nvPr/>
        </p:nvPicPr>
        <p:blipFill>
          <a:blip r:embed="rId2"/>
          <a:stretch/>
        </p:blipFill>
        <p:spPr>
          <a:xfrm>
            <a:off x="4324320" y="1587600"/>
            <a:ext cx="12600" cy="3967200"/>
          </a:xfrm>
          <a:prstGeom prst="rect">
            <a:avLst/>
          </a:prstGeom>
          <a:ln w="0">
            <a:noFill/>
          </a:ln>
        </p:spPr>
      </p:pic>
      <p:pic>
        <p:nvPicPr>
          <p:cNvPr id="337" name="直接连接符 7" descr=""/>
          <p:cNvPicPr/>
          <p:nvPr/>
        </p:nvPicPr>
        <p:blipFill>
          <a:blip r:embed="rId3"/>
          <a:stretch/>
        </p:blipFill>
        <p:spPr>
          <a:xfrm>
            <a:off x="7694640" y="1587600"/>
            <a:ext cx="12600" cy="3967200"/>
          </a:xfrm>
          <a:prstGeom prst="rect">
            <a:avLst/>
          </a:prstGeom>
          <a:ln w="0">
            <a:noFill/>
          </a:ln>
        </p:spPr>
      </p:pic>
      <p:sp>
        <p:nvSpPr>
          <p:cNvPr id="338" name="文本框 8"/>
          <p:cNvSpPr/>
          <p:nvPr/>
        </p:nvSpPr>
        <p:spPr>
          <a:xfrm>
            <a:off x="4848120" y="2214720"/>
            <a:ext cx="100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ff"/>
                </a:solidFill>
                <a:latin typeface="华康俪金黑W8(P)"/>
                <a:ea typeface="华康俪金黑W8(P)"/>
              </a:rPr>
              <a:t>地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9"/>
          <p:cNvSpPr/>
          <p:nvPr/>
        </p:nvSpPr>
        <p:spPr>
          <a:xfrm>
            <a:off x="4848120" y="3246480"/>
            <a:ext cx="100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ff"/>
                </a:solidFill>
                <a:latin typeface="华康俪金黑W8(P)"/>
                <a:ea typeface="华康俪金黑W8(P)"/>
              </a:rPr>
              <a:t>电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10"/>
          <p:cNvSpPr/>
          <p:nvPr/>
        </p:nvSpPr>
        <p:spPr>
          <a:xfrm>
            <a:off x="4848120" y="4394160"/>
            <a:ext cx="100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aff"/>
                </a:solidFill>
                <a:latin typeface="华康俪金黑W8(P)"/>
                <a:ea typeface="华康俪金黑W8(P)"/>
              </a:rPr>
              <a:t>企业</a:t>
            </a:r>
            <a:r>
              <a:rPr b="0" lang="en-US" sz="1200" spc="-1" strike="noStrike">
                <a:solidFill>
                  <a:srgbClr val="007aff"/>
                </a:solidFill>
                <a:latin typeface="华康俪金黑W8(P)"/>
                <a:ea typeface="华康俪金黑W8(P)"/>
              </a:rPr>
              <a:t>Q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5"/>
          <p:cNvSpPr/>
          <p:nvPr/>
        </p:nvSpPr>
        <p:spPr>
          <a:xfrm>
            <a:off x="4857840" y="2475000"/>
            <a:ext cx="27399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深圳市龙岗区坂田吉华路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665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号吉华大厦后栋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11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29"/>
          <p:cNvSpPr/>
          <p:nvPr/>
        </p:nvSpPr>
        <p:spPr>
          <a:xfrm>
            <a:off x="4848120" y="351000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400-0608-3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0"/>
          <p:cNvSpPr/>
          <p:nvPr/>
        </p:nvSpPr>
        <p:spPr>
          <a:xfrm>
            <a:off x="4848120" y="4660920"/>
            <a:ext cx="223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400-0608-37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31" descr="1101"/>
          <p:cNvPicPr/>
          <p:nvPr/>
        </p:nvPicPr>
        <p:blipFill>
          <a:blip r:embed="rId4"/>
          <a:stretch/>
        </p:blipFill>
        <p:spPr>
          <a:xfrm>
            <a:off x="2610000" y="2600280"/>
            <a:ext cx="1087200" cy="1087560"/>
          </a:xfrm>
          <a:prstGeom prst="rect">
            <a:avLst/>
          </a:prstGeom>
          <a:ln w="0">
            <a:noFill/>
          </a:ln>
        </p:spPr>
      </p:pic>
      <p:pic>
        <p:nvPicPr>
          <p:cNvPr id="345" name="图片 32" descr="liantu"/>
          <p:cNvPicPr/>
          <p:nvPr/>
        </p:nvPicPr>
        <p:blipFill>
          <a:blip r:embed="rId5"/>
          <a:stretch/>
        </p:blipFill>
        <p:spPr>
          <a:xfrm>
            <a:off x="8580600" y="396720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346" name="文本框 33"/>
          <p:cNvSpPr/>
          <p:nvPr/>
        </p:nvSpPr>
        <p:spPr>
          <a:xfrm>
            <a:off x="8757000" y="487836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幼教商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34" descr=""/>
          <p:cNvPicPr/>
          <p:nvPr/>
        </p:nvPicPr>
        <p:blipFill>
          <a:blip r:embed="rId6"/>
          <a:stretch/>
        </p:blipFill>
        <p:spPr>
          <a:xfrm>
            <a:off x="8580600" y="2160720"/>
            <a:ext cx="900000" cy="900000"/>
          </a:xfrm>
          <a:prstGeom prst="rect">
            <a:avLst/>
          </a:prstGeom>
          <a:ln w="0">
            <a:noFill/>
          </a:ln>
        </p:spPr>
      </p:pic>
      <p:sp>
        <p:nvSpPr>
          <p:cNvPr id="348" name="文本框 35"/>
          <p:cNvSpPr/>
          <p:nvPr/>
        </p:nvSpPr>
        <p:spPr>
          <a:xfrm>
            <a:off x="8757000" y="306072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官方微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试用体验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350" name="文本框 2"/>
          <p:cNvSpPr/>
          <p:nvPr/>
        </p:nvSpPr>
        <p:spPr>
          <a:xfrm>
            <a:off x="4829040" y="2981160"/>
            <a:ext cx="25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80"/>
                </a:solidFill>
                <a:latin typeface="微软雅黑"/>
                <a:ea typeface="微软雅黑"/>
              </a:rPr>
              <a:t>体验畅快收费  享受美好生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: 圆角 9">
            <a:hlinkClick r:id="rId1"/>
          </p:cNvPr>
          <p:cNvSpPr/>
          <p:nvPr/>
        </p:nvSpPr>
        <p:spPr>
          <a:xfrm>
            <a:off x="5322960" y="4003560"/>
            <a:ext cx="1547640" cy="501840"/>
          </a:xfrm>
          <a:prstGeom prst="roundRect">
            <a:avLst>
              <a:gd name="adj" fmla="val 6120"/>
            </a:avLst>
          </a:prstGeom>
          <a:solidFill>
            <a:srgbClr val="007aff"/>
          </a:solidFill>
          <a:ln w="0">
            <a:noFill/>
          </a:ln>
          <a:effectLst>
            <a:outerShdw dist="0" dir="0" blurRad="0" rotWithShape="0">
              <a:srgbClr val="007aff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10">
            <a:hlinkClick r:id="rId2"/>
          </p:cNvPr>
          <p:cNvSpPr/>
          <p:nvPr/>
        </p:nvSpPr>
        <p:spPr>
          <a:xfrm>
            <a:off x="5505480" y="4124160"/>
            <a:ext cx="118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bedf0"/>
                </a:solidFill>
                <a:latin typeface="微软雅黑 Light"/>
                <a:ea typeface="微软雅黑 Light"/>
              </a:rPr>
              <a:t>免费试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组合 3"/>
          <p:cNvGrpSpPr/>
          <p:nvPr/>
        </p:nvGrpSpPr>
        <p:grpSpPr>
          <a:xfrm>
            <a:off x="9537840" y="5499000"/>
            <a:ext cx="758520" cy="725760"/>
            <a:chOff x="9537840" y="5499000"/>
            <a:chExt cx="758520" cy="725760"/>
          </a:xfrm>
        </p:grpSpPr>
        <p:sp>
          <p:nvSpPr>
            <p:cNvPr id="354" name="椭圆 5">
              <a:hlinkClick r:id="rId3"/>
            </p:cNvPr>
            <p:cNvSpPr/>
            <p:nvPr/>
          </p:nvSpPr>
          <p:spPr>
            <a:xfrm>
              <a:off x="9537840" y="5499000"/>
              <a:ext cx="758520" cy="725760"/>
            </a:xfrm>
            <a:prstGeom prst="ellipse">
              <a:avLst/>
            </a:prstGeom>
            <a:solidFill>
              <a:srgbClr val="007aff"/>
            </a:solidFill>
            <a:ln w="0">
              <a:noFill/>
            </a:ln>
            <a:effectLst>
              <a:outerShdw dist="0" dir="0" blurRad="0" rotWithShape="0">
                <a:srgbClr val="007af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KSO_Shape">
              <a:hlinkClick r:id="rId4"/>
            </p:cNvPr>
            <p:cNvSpPr/>
            <p:nvPr/>
          </p:nvSpPr>
          <p:spPr>
            <a:xfrm>
              <a:off x="9762480" y="5742720"/>
              <a:ext cx="309240" cy="237960"/>
            </a:xfrm>
            <a:custGeom>
              <a:avLst/>
              <a:gdLst/>
              <a:ahLst/>
              <a:rect l="l" t="t" r="r" b="b"/>
              <a:pathLst>
                <a:path w="3424" h="3394">
                  <a:moveTo>
                    <a:pt x="3068" y="2751"/>
                  </a:moveTo>
                  <a:cubicBezTo>
                    <a:pt x="3110" y="3394"/>
                    <a:pt x="3110" y="3394"/>
                    <a:pt x="3110" y="3394"/>
                  </a:cubicBezTo>
                  <a:cubicBezTo>
                    <a:pt x="2526" y="2990"/>
                    <a:pt x="2526" y="2990"/>
                    <a:pt x="2526" y="2990"/>
                  </a:cubicBezTo>
                  <a:cubicBezTo>
                    <a:pt x="2486" y="2995"/>
                    <a:pt x="2444" y="2999"/>
                    <a:pt x="2401" y="2999"/>
                  </a:cubicBezTo>
                  <a:cubicBezTo>
                    <a:pt x="1837" y="2999"/>
                    <a:pt x="1379" y="2541"/>
                    <a:pt x="1379" y="1976"/>
                  </a:cubicBezTo>
                  <a:cubicBezTo>
                    <a:pt x="1379" y="1412"/>
                    <a:pt x="1837" y="954"/>
                    <a:pt x="2401" y="954"/>
                  </a:cubicBezTo>
                  <a:cubicBezTo>
                    <a:pt x="2966" y="954"/>
                    <a:pt x="3424" y="1412"/>
                    <a:pt x="3424" y="1976"/>
                  </a:cubicBezTo>
                  <a:cubicBezTo>
                    <a:pt x="3424" y="2286"/>
                    <a:pt x="3285" y="2563"/>
                    <a:pt x="3068" y="2751"/>
                  </a:cubicBezTo>
                  <a:close/>
                  <a:moveTo>
                    <a:pt x="2401" y="1206"/>
                  </a:moveTo>
                  <a:cubicBezTo>
                    <a:pt x="1985" y="1206"/>
                    <a:pt x="1648" y="1544"/>
                    <a:pt x="1648" y="1960"/>
                  </a:cubicBezTo>
                  <a:cubicBezTo>
                    <a:pt x="1648" y="2376"/>
                    <a:pt x="1985" y="2713"/>
                    <a:pt x="2401" y="2713"/>
                  </a:cubicBezTo>
                  <a:cubicBezTo>
                    <a:pt x="2433" y="2713"/>
                    <a:pt x="2463" y="2711"/>
                    <a:pt x="2494" y="2707"/>
                  </a:cubicBezTo>
                  <a:cubicBezTo>
                    <a:pt x="2884" y="2965"/>
                    <a:pt x="2884" y="2965"/>
                    <a:pt x="2884" y="2965"/>
                  </a:cubicBezTo>
                  <a:cubicBezTo>
                    <a:pt x="2893" y="2530"/>
                    <a:pt x="2893" y="2530"/>
                    <a:pt x="2893" y="2530"/>
                  </a:cubicBezTo>
                  <a:cubicBezTo>
                    <a:pt x="3053" y="2392"/>
                    <a:pt x="3155" y="2188"/>
                    <a:pt x="3155" y="1960"/>
                  </a:cubicBezTo>
                  <a:cubicBezTo>
                    <a:pt x="3155" y="1544"/>
                    <a:pt x="2818" y="1206"/>
                    <a:pt x="2401" y="1206"/>
                  </a:cubicBezTo>
                  <a:close/>
                  <a:moveTo>
                    <a:pt x="1172" y="2045"/>
                  </a:moveTo>
                  <a:cubicBezTo>
                    <a:pt x="1172" y="2281"/>
                    <a:pt x="1238" y="2501"/>
                    <a:pt x="1351" y="2690"/>
                  </a:cubicBezTo>
                  <a:cubicBezTo>
                    <a:pt x="1349" y="2690"/>
                    <a:pt x="1347" y="2691"/>
                    <a:pt x="1345" y="2691"/>
                  </a:cubicBezTo>
                  <a:cubicBezTo>
                    <a:pt x="1289" y="2691"/>
                    <a:pt x="1234" y="2686"/>
                    <a:pt x="1180" y="2679"/>
                  </a:cubicBezTo>
                  <a:cubicBezTo>
                    <a:pt x="413" y="3211"/>
                    <a:pt x="413" y="3211"/>
                    <a:pt x="413" y="3211"/>
                  </a:cubicBezTo>
                  <a:cubicBezTo>
                    <a:pt x="468" y="2364"/>
                    <a:pt x="468" y="2364"/>
                    <a:pt x="468" y="2364"/>
                  </a:cubicBezTo>
                  <a:cubicBezTo>
                    <a:pt x="182" y="2117"/>
                    <a:pt x="0" y="1753"/>
                    <a:pt x="0" y="1345"/>
                  </a:cubicBezTo>
                  <a:cubicBezTo>
                    <a:pt x="0" y="602"/>
                    <a:pt x="602" y="0"/>
                    <a:pt x="1345" y="0"/>
                  </a:cubicBezTo>
                  <a:cubicBezTo>
                    <a:pt x="1889" y="0"/>
                    <a:pt x="2356" y="324"/>
                    <a:pt x="2568" y="788"/>
                  </a:cubicBezTo>
                  <a:cubicBezTo>
                    <a:pt x="2525" y="784"/>
                    <a:pt x="2481" y="782"/>
                    <a:pt x="2436" y="782"/>
                  </a:cubicBezTo>
                  <a:cubicBezTo>
                    <a:pt x="1738" y="782"/>
                    <a:pt x="1172" y="1347"/>
                    <a:pt x="1172" y="20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7"/>
          <p:cNvSpPr/>
          <p:nvPr/>
        </p:nvSpPr>
        <p:spPr>
          <a:xfrm>
            <a:off x="10320480" y="5635800"/>
            <a:ext cx="105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联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微软雅黑 Light"/>
                <a:ea typeface="微软雅黑 Light"/>
              </a:rPr>
              <a:t>客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501720" y="2978280"/>
            <a:ext cx="5740200" cy="9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700" spc="-1" strike="noStrike">
                <a:solidFill>
                  <a:srgbClr val="ff0000"/>
                </a:solidFill>
                <a:latin typeface="黑体"/>
              </a:rPr>
              <a:t>拒绝繁琐  为你设计</a:t>
            </a:r>
            <a:endParaRPr b="0" lang="en-US" sz="47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特色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60480" y="2369880"/>
            <a:ext cx="1069992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收费效率提升</a:t>
            </a: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50%↑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账速度提升</a:t>
            </a: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80%↑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1" name="图片 3" descr=""/>
          <p:cNvPicPr/>
          <p:nvPr/>
        </p:nvPicPr>
        <p:blipFill>
          <a:blip r:embed="rId1"/>
          <a:stretch/>
        </p:blipFill>
        <p:spPr>
          <a:xfrm>
            <a:off x="1359000" y="2427120"/>
            <a:ext cx="262728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功能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63" name="文本框 3"/>
          <p:cNvSpPr/>
          <p:nvPr/>
        </p:nvSpPr>
        <p:spPr>
          <a:xfrm>
            <a:off x="3213000" y="1270080"/>
            <a:ext cx="54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、灵活、智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片 4" descr=""/>
          <p:cNvPicPr/>
          <p:nvPr/>
        </p:nvPicPr>
        <p:blipFill>
          <a:blip r:embed="rId1"/>
          <a:stretch/>
        </p:blipFill>
        <p:spPr>
          <a:xfrm>
            <a:off x="4002120" y="2270160"/>
            <a:ext cx="36370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功能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58520" y="1566360"/>
            <a:ext cx="10699560" cy="15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种收费方式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足您不同场景需求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2786040" y="4216320"/>
            <a:ext cx="1360440" cy="136224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5" descr=""/>
          <p:cNvPicPr/>
          <p:nvPr/>
        </p:nvPicPr>
        <p:blipFill>
          <a:blip r:embed="rId2"/>
          <a:stretch/>
        </p:blipFill>
        <p:spPr>
          <a:xfrm>
            <a:off x="5079960" y="4183200"/>
            <a:ext cx="1293840" cy="12938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8" descr=""/>
          <p:cNvPicPr/>
          <p:nvPr/>
        </p:nvPicPr>
        <p:blipFill>
          <a:blip r:embed="rId3"/>
          <a:stretch/>
        </p:blipFill>
        <p:spPr>
          <a:xfrm>
            <a:off x="9893160" y="4183200"/>
            <a:ext cx="174636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9"/>
          <p:cNvSpPr/>
          <p:nvPr/>
        </p:nvSpPr>
        <p:spPr>
          <a:xfrm>
            <a:off x="3133800" y="567864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付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10"/>
          <p:cNvSpPr/>
          <p:nvPr/>
        </p:nvSpPr>
        <p:spPr>
          <a:xfrm>
            <a:off x="5245200" y="5678640"/>
            <a:ext cx="11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微信支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文本框 11"/>
          <p:cNvSpPr/>
          <p:nvPr/>
        </p:nvSpPr>
        <p:spPr>
          <a:xfrm>
            <a:off x="7588080" y="56894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机刷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12"/>
          <p:cNvSpPr/>
          <p:nvPr/>
        </p:nvSpPr>
        <p:spPr>
          <a:xfrm>
            <a:off x="10032840" y="5678640"/>
            <a:ext cx="14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银行卡转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4" descr=""/>
          <p:cNvPicPr/>
          <p:nvPr/>
        </p:nvPicPr>
        <p:blipFill>
          <a:blip r:embed="rId4"/>
          <a:stretch/>
        </p:blipFill>
        <p:spPr>
          <a:xfrm>
            <a:off x="7308720" y="4226040"/>
            <a:ext cx="1694160" cy="128412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6" descr=""/>
          <p:cNvPicPr/>
          <p:nvPr/>
        </p:nvPicPr>
        <p:blipFill>
          <a:blip r:embed="rId5"/>
          <a:stretch/>
        </p:blipFill>
        <p:spPr>
          <a:xfrm>
            <a:off x="430200" y="4233960"/>
            <a:ext cx="1719360" cy="1149120"/>
          </a:xfrm>
          <a:prstGeom prst="rect">
            <a:avLst/>
          </a:prstGeom>
          <a:ln w="0">
            <a:noFill/>
          </a:ln>
        </p:spPr>
      </p:pic>
      <p:sp>
        <p:nvSpPr>
          <p:cNvPr id="276" name="文本框 7"/>
          <p:cNvSpPr/>
          <p:nvPr/>
        </p:nvSpPr>
        <p:spPr>
          <a:xfrm>
            <a:off x="917640" y="5645160"/>
            <a:ext cx="8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收费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747720" y="1336320"/>
            <a:ext cx="1069992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填写欠费与减免自动计算金额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支持现金与非现金同时收取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79" name="图片 8" descr=""/>
          <p:cNvPicPr/>
          <p:nvPr/>
        </p:nvPicPr>
        <p:blipFill>
          <a:blip r:embed="rId1"/>
          <a:stretch/>
        </p:blipFill>
        <p:spPr>
          <a:xfrm>
            <a:off x="309600" y="3065400"/>
            <a:ext cx="116856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预交费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758520" y="1703160"/>
            <a:ext cx="1069956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学期交下学期优惠，不用每次都使用计算器啦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2" name="图片 8" descr=""/>
          <p:cNvPicPr/>
          <p:nvPr/>
        </p:nvPicPr>
        <p:blipFill>
          <a:blip r:embed="rId1"/>
          <a:stretch/>
        </p:blipFill>
        <p:spPr>
          <a:xfrm>
            <a:off x="235080" y="3200400"/>
            <a:ext cx="1187136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催费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828360" y="1461600"/>
            <a:ext cx="10699560" cy="13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性化设定，告别电话通知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月收费与欠费人员，进行催费提醒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5" name="图片 4" descr=""/>
          <p:cNvPicPr/>
          <p:nvPr/>
        </p:nvPicPr>
        <p:blipFill>
          <a:blip r:embed="rId1"/>
          <a:stretch/>
        </p:blipFill>
        <p:spPr>
          <a:xfrm>
            <a:off x="152280" y="3422520"/>
            <a:ext cx="1180800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2120" y="344160"/>
            <a:ext cx="1069632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9bd5"/>
                </a:solidFill>
                <a:latin typeface="微软雅黑"/>
                <a:ea typeface="微软雅黑"/>
              </a:rPr>
              <a:t>统计</a:t>
            </a:r>
            <a:endParaRPr b="0" lang="en-US" sz="3200" spc="-1" strike="noStrike">
              <a:solidFill>
                <a:srgbClr val="44546a"/>
              </a:solidFill>
              <a:latin typeface="黑体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47720" y="1358640"/>
            <a:ext cx="66708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强大的统计功能，多种统计方式，尽在您的掌握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8" name="图片 3" descr=""/>
          <p:cNvPicPr/>
          <p:nvPr/>
        </p:nvPicPr>
        <p:blipFill>
          <a:blip r:embed="rId1"/>
          <a:stretch/>
        </p:blipFill>
        <p:spPr>
          <a:xfrm>
            <a:off x="330120" y="2189160"/>
            <a:ext cx="1160964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5T08:02:00Z</dcterms:created>
  <dc:creator/>
  <dc:description/>
  <dc:language>en-US</dc:language>
  <cp:lastModifiedBy>Administrator</cp:lastModifiedBy>
  <dcterms:modified xsi:type="dcterms:W3CDTF">2016-12-13T02:52:17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</Properties>
</file>