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876A-DC31-4285-BFAD-524A7133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F138-0D71-4EC2-B70A-0228454B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5304-064E-4D25-9E3C-94D9FBC7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3193-4D51-4CC3-B5BF-85CB8605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BAD5-E564-403E-B45C-F3F7D18F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B425-F50F-4931-A6D5-E83CE4F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BCA0-ABE4-4489-877B-910607D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2360-3D51-4093-BE30-FFEDD3DC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3088-1A88-4C5A-A451-5FFD586C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D4CC-E024-4D1E-B05E-CFF0294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D2BE-E4E3-47E1-9CB8-99F3067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A8BA-70B6-4F91-B65A-EC7486A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A5A-31EB-4220-A6C2-325C730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3BEE-A59C-4410-B38E-093BFAD2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0108-9AC9-41F2-B0A8-64A6869A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7285-A9F1-4E9C-83CA-0FA3FF44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A5D-AA6E-4FBF-B9E8-4AE9AE19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5AED-74E2-434F-93AD-5F88149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A561-9AE6-45C8-ADF5-2D9FCC1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BF08-5DC7-495F-89F2-5899895C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C1FC-6104-4326-A433-F7E591AE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1B93-64B8-48A5-B78C-780CEFE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220D-A5F9-4D76-833B-118CF02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950F-B209-4221-A0CE-DE3F063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0BB-90FA-4347-BA8E-1CD0F8ED3A6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3C95-C726-4427-BE6F-9AC06AC3B8C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姓名：            部门：                 职务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这次培训我学习到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我还希望下次学习的内容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我计划在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日前做到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楷体_GB2312"/>
              </a:rPr>
              <a:t>当达到这些标准就证明我做到了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楷体_GB2312"/>
              </a:rPr>
              <a:t>---------------------------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楷体_GB2312"/>
              </a:rPr>
              <a:t>当达到这些标准就证明我做到了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楷体_GB2312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496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姓名：                     部门：                  职务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  <a:ea typeface="华文新魏"/>
              </a:rPr>
              <a:t>我认真阅读了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  <a:ea typeface="华文新魏"/>
              </a:rPr>
              <a:t>周一清晨的领导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  <a:ea typeface="华文新魏"/>
              </a:rPr>
              <a:t>，我感悟到做一个成功的管理者应该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楷体_GB2312"/>
              </a:rPr>
              <a:t>因此，我在工作中会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------------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楷体_GB2312"/>
              </a:rPr>
              <a:t>因此，我在工作中会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------------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华文隶书"/>
              </a:rPr>
              <a:t>但我仍然困惑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 rot="20761200">
            <a:off x="5845320" y="5300280"/>
            <a:ext cx="25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至少</a:t>
            </a:r>
            <a:r>
              <a:rPr b="0" i="1" lang="en-US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500</a:t>
            </a:r>
            <a:r>
              <a:rPr b="0" i="1" lang="zh-CN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c888</cp:lastModifiedBy>
  <dcterms:modified xsi:type="dcterms:W3CDTF">2005-01-22T16:56:56Z</dcterms:modified>
  <cp:revision>1</cp:revision>
  <dc:subject/>
  <dc:title>PowerPoint Presentation</dc:title>
</cp:coreProperties>
</file>