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2F69-BA3A-4550-9930-A9A91A25A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6250-ECF4-443F-91F6-CA83C12B0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89DC-4EC9-47E8-BE2A-A5EEEE46E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CFFC-302A-4367-BF87-635AAD0E3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0D46-93BE-44E9-91FD-2670C2969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4D6F-D4F0-439D-8F70-D12DC6ED3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47B2-042C-4769-B7C6-950281672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6630-057F-4E88-88AE-F64EB4FBE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293F-540C-46E4-A222-8F5D257B1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F249-326A-41D4-AB8E-91F59E56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22D8-4054-48E3-808D-4999777B7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AE3F-A6DC-4E48-8EEA-92897F95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E567E-FC39-4527-80F2-C0A6B80F45F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Calibri"/>
              </a:rPr>
              <a:t>奈末拼图助手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封面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"/>
              </a:rPr>
              <a:t>第一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内容占位符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"/>
              </a:rPr>
              <a:t>第二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内容占位符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"/>
              </a:rPr>
              <a:t>第三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内容占位符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"/>
              </a:rPr>
              <a:t>第四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内容占位符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Calibri"/>
              </a:rPr>
              <a:t>第五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内容占位符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"/>
              </a:rPr>
              <a:t>第六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内容占位符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09T01:09:49Z</dcterms:created>
  <dc:creator>Administrator</dc:creator>
  <dc:description/>
  <dc:language>en-US</dc:language>
  <cp:lastModifiedBy>Administrator</cp:lastModifiedBy>
  <dcterms:modified xsi:type="dcterms:W3CDTF">2020-04-09T01:14:49Z</dcterms:modified>
  <cp:revision>1</cp:revision>
  <dc:subject/>
  <dc:title>奈末拼图助手</dc:title>
</cp:coreProperties>
</file>