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7240-DED3-4B5F-9D0B-8674CF9D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3727-7905-4919-8AAA-5AAA8C58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B79-6741-497D-A639-D340A99C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456C-D8E6-44A0-BEA0-FBEC2714A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8F99D-0C1A-463B-BE06-F3CFB83BC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D84E-DEA0-4939-9966-1A406821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EE096-B080-48EB-B6AB-08B6A85A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55B1-7169-49AA-8649-BB10A58B8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A078-3F4F-4E4E-B24F-AB3A0C2F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6757-BB73-4273-A0C5-3F07D8A0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37CE-F37E-42BD-AD3C-4807D392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C15-0E84-4E98-8283-E9AA559B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4349-259B-4AAF-B492-4DCA265D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3800-4C69-4117-BC29-2FFF31DB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C8FAD-7290-4B63-8ABE-64D8D3D87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0A5C2-673E-4860-8BF4-2A2AAEC9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1158-3469-4F11-BED2-DD7C608E6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D5C2D-71CA-405F-9583-92D60A25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F11D2-EED2-4631-A6A0-45A1EF09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D969-E955-4364-8D05-4F07071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9219-0763-4AD5-BEE2-CFB736F3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F2B4E-8226-4015-8929-2E4229128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176B-978E-443A-89D9-DBBF184B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8BB1A-6ADD-48B3-9287-71DE669C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F246-DC4B-475C-970F-C2517896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E3BCE-899E-4ED4-9CB8-F2984820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0BE29-9DED-458B-86C3-663C01C1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F936D-A695-4F3F-BC06-F9CBAFC9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72D8E-ED46-4C28-8EB3-B0C08292D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933B7-D8E6-4CFD-93DE-92667764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F5CF-571F-40D8-A594-3641D550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01F07-FD73-4CBB-82C3-F92BF98D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7A7B5-B7A1-477C-9833-76A805AF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0B7-06DB-49DB-8788-BE15CDF4D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90F43-43BB-483E-A99A-FE34EA29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C1139-9C4F-44DC-BBB6-A7C441F2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B0B63-DA13-4ADF-BC69-64BDB52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D20B3-6AFE-427A-812F-0985B1B0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4D828-7BFC-4DDD-820F-E8FE8CE4F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AAFB-DB74-462F-BC3A-B9663199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72134-8B85-4A1F-A96E-0400A33C1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6BC36-B93A-4376-B3C5-5FCAB291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1B781-2C84-4DFB-8A20-05F53F9D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D409D-AE58-4E08-B592-68B819925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7FA2-B558-4E8C-99C9-C310E0E4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9616-6712-4251-800F-2F7FEF33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86C54-4123-4991-B4A4-17FA67C93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98B79-2932-41F7-A2D7-0247463C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66524-7BA2-4468-81E3-AF0CC0AE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34423-DD87-4446-A524-EAAC99F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F3160-9909-446A-96D4-8D4F27AF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7EEC-2C96-4A7F-A836-F1CC2844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20673-76B1-4F64-9A5E-93870126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8A9A1-C81E-4A92-A27A-E8973106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17D9A-F0BC-46CB-88B0-FF6F5DAF2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4FED-2B07-40BA-BE2E-605441E0A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34AE1-2885-41C8-8DE2-1682E7ED1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76B1D-4D9C-48BC-8599-2C61D96C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06906-3525-4CCA-8F50-ECC3CA37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1FBAA7-ABB3-4344-942E-9A68F7FE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DF432-ADFA-42BF-8FC0-255C14CA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91D47-F664-421B-9B73-FCDD331CD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18D84-AD70-46D8-902B-6BE37BA4D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E51C7-20A5-41AD-AD9F-5245B493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31513-1FE3-4D29-AE18-F0D2FC8C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3C2A2-77DF-4F94-9AD7-56723DC1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B618-E4A3-4F3B-9421-B00CD1EC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EC5D7-82E2-4244-BF5E-2F84AA67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BBD79-D482-47EC-9F18-04DB1725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048F5-904B-4000-88C9-A86104283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110F7-86CF-4C52-91D8-415970A29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3A1F9-C927-46B8-9FD5-10ED812B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977C65-53D0-4CE1-8F8B-E9D73529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3444F-8F88-462C-B759-B57065020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D0156-94FE-4E5F-955D-6173EACB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62E2E6-5521-4AF8-B6A3-363B3C3F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4C1FB6-06D0-4D2F-9B0D-C08A950A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A775-2DCC-4417-8945-4B1D6D4A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190EA-EE5F-4A32-8077-6728C7B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FBD5E-7946-4D7C-B5CD-2EE4C70B8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B7F3E3-D3B4-4C8C-B60F-FB058561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1F1E9-8D7E-476D-928A-16F259394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BCA6C7-5242-4F63-B4A6-2F6302DF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9FC57-8CE4-4D33-A82B-512403CA1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8FD70-ACCC-4795-B613-1D4AF3B9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99855-5FE8-4469-BC26-1EC98215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F87D2-721A-41D6-8F21-689074F5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E102A-2F5E-4C2C-A294-20F79493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E95B-E815-46CD-943A-7F5409A8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685800" y="1596600"/>
            <a:ext cx="7772400" cy="51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018BF-6A3B-4C76-91D6-B3FE1D1E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9A08BB-B0A9-4CD2-B32E-B812035B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13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D88F7-9D32-4A93-A501-1738D242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6D698C-6091-4F8F-A53B-B68706C3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1371600" y="3601080"/>
            <a:ext cx="640080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5E2FE-55DD-492E-89BB-7682369C4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51560" y="291456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37160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51560" y="3601080"/>
            <a:ext cx="312336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89681E-CA02-46EE-8103-AE3EB60A6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37160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3556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699880" y="291456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137160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53556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699880" y="3601080"/>
            <a:ext cx="2060640" cy="62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6CAF6-138F-400B-B65B-0E6F9153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265B6F55-63CF-452E-8F4E-8C1A014ED7A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1A425706-F628-45C7-A98B-DF959E6D974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AA890781-FE55-4668-93F4-A730FF0AC9C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607E81E3-0059-4BEF-9650-6F7BD847DB2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808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E794D5C1-19A2-4A8B-A6B2-DC666D66765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9A2D669C-850A-4D67-8B07-2CA68BDBBD2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6807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491840"/>
            <a:ext cx="8229600" cy="31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549720" indent="-21132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2" marL="845640" indent="-16884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3" marL="1184040" indent="-16884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4" marL="1522440" indent="-168840">
              <a:spcBef>
                <a:spcPts val="799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5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6" marL="1522440" indent="-168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9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20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21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6A1D7C67-435D-42E9-8AF7-010739CBDA3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1596600"/>
            <a:ext cx="77724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45684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ftr" idx="23"/>
          </p:nvPr>
        </p:nvSpPr>
        <p:spPr>
          <a:xfrm>
            <a:off x="3124080" y="4683240"/>
            <a:ext cx="28958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sldNum" idx="24"/>
          </p:nvPr>
        </p:nvSpPr>
        <p:spPr>
          <a:xfrm>
            <a:off x="6552720" y="4683240"/>
            <a:ext cx="213372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914400" indent="0" algn="r">
              <a:buNone/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fld id="{2B4D6D0C-F715-46EF-B215-F090A4652896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07920" y="2959200"/>
            <a:ext cx="382284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系列幻灯教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2750760" y="3828960"/>
            <a:ext cx="418140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了解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ETM</a:t>
            </a: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早教管理软件的部署方案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5240" y="1973160"/>
            <a:ext cx="334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4400" spc="-1" strike="sngStrike">
                <a:solidFill>
                  <a:srgbClr val="ff9900"/>
                </a:solidFill>
                <a:latin typeface="Arial"/>
              </a:rPr>
              <a:t>ETM </a:t>
            </a:r>
            <a:endParaRPr b="0" lang="en-US" sz="44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533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一步：致早教中心管理者的信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6960" y="1006560"/>
            <a:ext cx="6964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早教中心的管理者：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你们好！这个时间，也许您还在忙于工作，也许还在累于管理，也许还在疲于招生……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您选择早教行业，证明您与我们相同，都有关爱孩子的爱心，只是同样爱孩子，我们的方式不同，你们是第一线，而我们，是为你们提供充分保障的后勤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您也许已经开始为如何管理好日益增多的会员而发愁，如何管理好员工的频繁换岗而痛苦，如何避免大量的排课出错而焦虑，更为如何管理统计每天的各类报表而为难……恭喜您，您的早教已初成规模！这些问题，我们已经帮您得到完美解决并得以验证，您也可以拥有同伴羡慕的会员数、好品牌、好口碑，您也可以获得同行嫉妒的低成本投入、高效率发展、简单化管理……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时代在变化，信息在发展，面对井喷式的早教崛起，媒体已聚焦关注，国家正完善规范，这是一场不公平的团体赛，跑道有限，队员无限。您选择使用原始方法继续攀行，与同伴拼挣，还是借助特殊工具超越飞奔，领先在前，决定权在您。而我们，经过不懈努力，已经帮您研制好了飞奔工具，您若愿意，不仿尝试体验一下，领先的轻松感觉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无论您是独立的加盟自负盈亏者，还是连锁的早教创始开拓者。我们都已为您准备就绪，等待您的光临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629400" y="465120"/>
            <a:ext cx="10033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二步：关于一家门店使用安装方法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1717560" y="800280"/>
            <a:ext cx="5004000" cy="38034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719280" y="4559400"/>
            <a:ext cx="696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管理就是为了简单、节省和高效。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只需门店内一台电脑安装，所有电脑同步使用，集中管理维护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三步：关于多家连锁低成本完美解决方案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bsmore_1" descr=""/>
          <p:cNvPicPr/>
          <p:nvPr/>
        </p:nvPicPr>
        <p:blipFill>
          <a:blip r:embed="rId2"/>
          <a:stretch/>
        </p:blipFill>
        <p:spPr>
          <a:xfrm>
            <a:off x="1717560" y="800280"/>
            <a:ext cx="5002200" cy="38034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1150920" y="4559400"/>
            <a:ext cx="61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每家门店独立运行，断网后不影响正常使用，统一总部管理控制，总部随时了解门店情况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四步：关于多家连锁集中云平台管理方案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bsmore_2" descr=""/>
          <p:cNvPicPr/>
          <p:nvPr/>
        </p:nvPicPr>
        <p:blipFill>
          <a:blip r:embed="rId2"/>
          <a:stretch/>
        </p:blipFill>
        <p:spPr>
          <a:xfrm>
            <a:off x="1717560" y="800280"/>
            <a:ext cx="5002200" cy="38019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324080" y="4559400"/>
            <a:ext cx="58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统一总部管理控制，云平台管理，门店通过网络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VPN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加密访问使用，让数据永不丢失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41400" y="0"/>
            <a:ext cx="70419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全新硬笔行书简"/>
                <a:ea typeface="黑体"/>
              </a:rPr>
              <a:t>第五步：关于产品的最多问题问答收录</a:t>
            </a:r>
            <a:endParaRPr b="0" lang="en-US" sz="18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85920" y="1231920"/>
            <a:ext cx="763092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问：你们软件是单机版只允许一台电脑安装使用吗？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答：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从不生产单机版，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最小为单店版，支持门店所有电脑同时使用且不限止使用数量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问：我有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30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名员工，你们软件需要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30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台电脑必须都安装才能使用吗？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答：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无论您有多少电脑，只需安装一台，其他电脑便可授权使用，您只需管理一台电脑便可管理整个中心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问：我的数据是放在哪里？断网可以使用吗？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答：软件和数据库放在您指定的电脑内，数据全在里边，只要管理好这台电脑就行。安装在本地断网不影响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问：我能自己给我的员工分配不同帐号和权限吗？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答：您可以自由在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权限内添加不同的岗位角色分配给不同的员工，互不影响，还支持一人身兼多职呢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问：你们跟同行比有什么优势？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答：产品质量上：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公司总部有十多年软件研发经验，现有工程师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500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多名，产品质量严谨且符合标准；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产品价格上：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为您提供同类产品中性价比最高的优势，让物超所值；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产品服务上：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ET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公司总部为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callcenter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产品出身，拥有多年客服中心管理，好的软件都是从好的服务开始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产品架构上：一台安装，多台使用，低成本快速维护与高效管理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更多问题请登录官网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www.csewe.com</a:t>
            </a:r>
            <a:r>
              <a:rPr b="0" lang="zh-CN" sz="1200" spc="-1" strike="sngStrike">
                <a:solidFill>
                  <a:srgbClr val="292929"/>
                </a:solidFill>
                <a:latin typeface="Arial"/>
              </a:rPr>
              <a:t>查看或来电咨询。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6653160" y="455760"/>
            <a:ext cx="857160" cy="85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-119880" y="1623960"/>
            <a:ext cx="349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4400" spc="-1" strike="sngStrike">
                <a:solidFill>
                  <a:srgbClr val="ff9900"/>
                </a:solidFill>
                <a:latin typeface="黑体"/>
                <a:ea typeface="黑体"/>
              </a:rPr>
              <a:t>谢谢</a:t>
            </a:r>
            <a:r>
              <a:rPr b="1" lang="zh-CN" sz="4400" spc="-1" strike="sngStrike">
                <a:solidFill>
                  <a:srgbClr val="99cc00"/>
                </a:solidFill>
                <a:latin typeface="黑体"/>
                <a:ea typeface="黑体"/>
              </a:rPr>
              <a:t>使用</a:t>
            </a:r>
            <a:r>
              <a:rPr b="1" lang="zh-CN" sz="4400" spc="-1" strike="sngStrike">
                <a:solidFill>
                  <a:srgbClr val="ff9900"/>
                </a:solidFill>
                <a:latin typeface="黑体"/>
                <a:ea typeface="黑体"/>
              </a:rPr>
              <a:t> </a:t>
            </a:r>
            <a:endParaRPr b="0" lang="en-US" sz="4400" spc="-1" strike="sng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076480" y="3279600"/>
            <a:ext cx="6064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    </a:t>
            </a:r>
            <a:r>
              <a:rPr b="1" lang="zh-CN" sz="1200" spc="-1" strike="sngStrike">
                <a:solidFill>
                  <a:srgbClr val="ff9900"/>
                </a:solidFill>
                <a:latin typeface="Arial"/>
              </a:rPr>
              <a:t>内容回顾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致早教中心管理者的信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关于一家门店使用安装方法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关于多家连锁低成本完美解决方案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关于多家连锁集中云平台管理方案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buClr>
                <a:srgbClr val="ffffff"/>
              </a:buClr>
              <a:buFont typeface="Wingdings" charset="2"/>
              <a:buChar char=""/>
              <a:tabLst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200" spc="-1" strike="sngStrike">
                <a:solidFill>
                  <a:srgbClr val="ffffff"/>
                </a:solidFill>
                <a:latin typeface="Arial"/>
              </a:rPr>
              <a:t>关于产品的最多问题问答收录</a:t>
            </a: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  <a:p>
            <a:pPr marL="914400" indent="-914400">
              <a:tabLst>
                <a:tab algn="l" pos="0"/>
                <a:tab algn="l" pos="922320"/>
                <a:tab algn="l" pos="933480"/>
                <a:tab algn="l" pos="944640"/>
                <a:tab algn="l" pos="955800"/>
                <a:tab algn="l" pos="966960"/>
                <a:tab algn="l" pos="977760"/>
                <a:tab algn="l" pos="988920"/>
                <a:tab algn="l" pos="1000080"/>
                <a:tab algn="l" pos="1011240"/>
                <a:tab algn="l" pos="1022400"/>
                <a:tab algn="l" pos="1033560"/>
                <a:tab algn="l" pos="1044720"/>
                <a:tab algn="l" pos="1055520"/>
                <a:tab algn="l" pos="1066680"/>
                <a:tab algn="l" pos="1077840"/>
                <a:tab algn="l" pos="1089000"/>
                <a:tab algn="l" pos="1100160"/>
                <a:tab algn="l" pos="1111320"/>
                <a:tab algn="l" pos="1122480"/>
                <a:tab algn="l" pos="1133640"/>
              </a:tabLst>
            </a:pPr>
            <a:endParaRPr b="0" lang="en-US" sz="1200" spc="-1" strike="sng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93840" y="304920"/>
            <a:ext cx="1533240" cy="4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00Z</dcterms:created>
  <dc:creator/>
  <dc:description/>
  <dc:language>en-US</dc:language>
  <cp:lastModifiedBy>ilovePPT.ORG</cp:lastModifiedBy>
  <cp:lastPrinted>1899-12-30T00:00:00Z</cp:lastPrinted>
  <dcterms:modified xsi:type="dcterms:W3CDTF">2012-07-13T11:39:35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199</vt:lpwstr>
  </property>
</Properties>
</file>