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C78-0176-4463-A149-A042F5F40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6EDC-26FE-4949-84FE-A724A5FA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897A-7572-49B5-8ECF-B421DEB5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8505-9149-4CDB-9F4D-91E7726B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4FEAA-2B84-4192-AB1E-9DB8F79C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B9E9-A7B7-4C43-B8FB-2FC2386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8A7C-BBB8-4DC6-879C-BCB0494AA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6E5B2-781D-4319-911A-32589185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3333-90B2-4FCB-9765-771171A4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5DE32-E9B0-424B-9304-5A9F8597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EB121-0D7C-4ED8-800D-C469331E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314-2E1C-4037-89C2-9529B594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CF4D-F399-424D-9619-7A50D504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ECB8-75F9-43B0-AA6B-56137F07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86F1-1402-4C39-B5F1-6A98241B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BD70-A5E3-4FCD-94E5-D19FB134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00D5-B8F4-4463-95E2-2B403B24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F166-B2AC-44CA-AC9F-2B7568DAB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C684A-5A9E-4813-A39C-2A5E941E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A16E-771E-47DB-A0AD-40E007F2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5BC9E-637A-407E-A000-9E215340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9AFF-43D9-4F5D-8791-087378B22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C298-9EE7-4C84-822A-3AFCE8270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448D1-1A5F-4AA0-B5E4-3E8A83B2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58EB-E583-4B98-88EB-BCDB14A2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EE721-4E1D-40C9-ABBD-BDA5E6A1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101B-CF86-42EF-B7F1-6E2540AD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53C3A-BEDC-44A4-AF31-F8912CFE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3C8F7-0BC1-4CB9-B9AE-C53F5ECA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9FF12-796B-40EC-9C07-033766AC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64165-320C-4436-8CFD-C1D8D749A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9C512-8124-4637-BE17-0B54BDE5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23341-F7C6-4587-8C53-EAD68662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BE59-A5AC-4516-9624-31FE6967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51CF1-E079-46DA-BE08-0E535028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B8C62-040F-4FC9-AD2B-E5B0703F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B5A2C-E7A5-4B6A-B3A5-5CC13722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32303-1709-4062-AB7B-D0641404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6CB3-8BFA-43F3-AA46-17423AA9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8FD4A-EC35-4139-A7FE-BBCC44B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7AC54-50F4-41B2-968D-6EC4938A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1F1A3-6CBC-4026-AF32-6A032091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C0AD8-B299-4194-8A7C-06016150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66C11-44F6-407A-A7CC-5D69BF6E5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21FA-ACA8-4EC8-8264-B91B7C9A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41B30-7953-4A0A-B73C-7FAA5EF8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179EE3-8DDF-463D-AAA6-D507F34A3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0CD2-5D47-4C62-9F6C-7819A19E6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2A5AC-5A90-4EB2-8332-3F59EEF6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DAD7C8-20D4-4F95-93B5-76546488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6ACD4-3FAC-4615-8F21-39AFD7304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E363A-FCB3-4B3D-8E73-787C82CF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82FE71-26DB-4C4B-BA18-E9C8AE21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02E4D-D938-4CF3-8076-EBB4FAE8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1381E-983F-4B2C-A375-62F60E30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CF04-511F-4162-BDE5-362B4B71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DCB36-F53F-4BC0-BF67-770E482A7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36428-B0F4-4396-B3C0-54216145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D99FE-B7FA-497E-93AB-5D700E2C8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F5AE3-34AD-447D-AB9B-53C84900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33B39-B9EE-4597-AB72-D5606EEB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F23BD4-87A7-4720-98AB-6B71C2DDB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8BD5E-D5E6-4769-9C10-28FED448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C7F1C-3615-4F77-8453-9FA430969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E2BD3-B57D-45C3-8F1C-646E682F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3CCC3-52C8-49D4-891C-ECC9B5A5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8BD9-55B4-46F7-875B-B3E74B25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7448F0-F71B-4BD0-A178-9285D5AB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BECF3-474B-44C4-B350-EAF61281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4B546-53B6-4027-AA0F-92144D626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A246-750E-4B7C-98AC-3724B02B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4FBB-E4CA-42BF-B8BC-AEACAC0C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1BE6D7E9-F0D9-4979-AE74-3B929BFD6E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3F111EC1-476A-4FCE-9251-544006A28EC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3843B0FC-9BC1-4010-B583-1684587AB58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44BCBDCE-E2D0-4027-B0D0-0EB59FF897C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854AD3D1-FD65-41F6-A059-86248BADA3D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83270C2E-A05C-4F9B-A735-2C60A4DCD5B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07920" y="2959200"/>
            <a:ext cx="38228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系列幻灯教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2750760" y="3828960"/>
            <a:ext cx="41814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黑体"/>
                <a:ea typeface="黑体"/>
              </a:rPr>
              <a:t>如何建立企业架构和添加员工并分配权限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5240" y="1973160"/>
            <a:ext cx="33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4400" spc="-1" strike="sngStrike">
                <a:solidFill>
                  <a:srgbClr val="ff9900"/>
                </a:solidFill>
                <a:latin typeface="Arial"/>
              </a:rPr>
              <a:t>ETM </a:t>
            </a:r>
            <a:endParaRPr b="0" lang="en-US" sz="44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533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一步：认识企业架构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934920" y="822240"/>
            <a:ext cx="6372360" cy="37353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603760" y="966960"/>
            <a:ext cx="20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企业架构由部门、部门岗位、岗位下的员工共同组成，如同背景的大树，分别由树根、树干、树枝、树叶共同构成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11960" y="944640"/>
            <a:ext cx="2222280" cy="865080"/>
          </a:xfrm>
          <a:prstGeom prst="wedgeRect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24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二步：添加部门信息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55560" y="825480"/>
            <a:ext cx="7021440" cy="34178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74840" y="4334040"/>
            <a:ext cx="75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打开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系统管理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菜单，找到左侧的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部门信息管理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后并打开，按提示输入部门名称后选择上级部门，点击添加或直接修改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370320" y="2905200"/>
            <a:ext cx="2114640" cy="8668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三步：添加员工职位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添加员工职位" descr=""/>
          <p:cNvPicPr/>
          <p:nvPr/>
        </p:nvPicPr>
        <p:blipFill>
          <a:blip r:embed="rId2"/>
          <a:stretch/>
        </p:blipFill>
        <p:spPr>
          <a:xfrm>
            <a:off x="655560" y="825480"/>
            <a:ext cx="7021440" cy="341784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474840" y="4334040"/>
            <a:ext cx="75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打开企业架构下的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员工职位管理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，按提示添加，注意选择上级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3454560" y="2925720"/>
            <a:ext cx="1923840" cy="10954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四步：添加员工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添加员工" descr=""/>
          <p:cNvPicPr/>
          <p:nvPr/>
        </p:nvPicPr>
        <p:blipFill>
          <a:blip r:embed="rId2"/>
          <a:stretch/>
        </p:blipFill>
        <p:spPr>
          <a:xfrm>
            <a:off x="655560" y="825480"/>
            <a:ext cx="7021440" cy="34164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474840" y="4334040"/>
            <a:ext cx="75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打开企业架构下的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员工信息添加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，按提示填写，注意用户名为登录系统名称，状态为“在职”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4908600" y="2879640"/>
            <a:ext cx="2657520" cy="116208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  <p:sp>
        <p:nvSpPr>
          <p:cNvPr id="265" name=""/>
          <p:cNvSpPr/>
          <p:nvPr/>
        </p:nvSpPr>
        <p:spPr>
          <a:xfrm>
            <a:off x="1427040" y="3727440"/>
            <a:ext cx="353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状态为“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离职或冻结</a:t>
            </a:r>
            <a:r>
              <a:rPr b="0" lang="zh-CN" sz="1200" spc="-1" strike="sngStrike">
                <a:solidFill>
                  <a:srgbClr val="ff9900"/>
                </a:solidFill>
                <a:latin typeface="Arial"/>
              </a:rPr>
              <a:t>”时将自动锁定系统不能登录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五步：建立权限角色名称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创建权限角色名称" descr=""/>
          <p:cNvPicPr/>
          <p:nvPr/>
        </p:nvPicPr>
        <p:blipFill>
          <a:blip r:embed="rId2"/>
          <a:stretch/>
        </p:blipFill>
        <p:spPr>
          <a:xfrm>
            <a:off x="657360" y="825480"/>
            <a:ext cx="7019640" cy="34164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474840" y="4334040"/>
            <a:ext cx="75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打开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权限管理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下的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权限角色添加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，勾选栏目并输入权限名称提交，建立不同员工职位的权限，未勾选的栏目在授权后的员工管理界面中将无此权限并隐藏显示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029200" y="1368360"/>
            <a:ext cx="1609560" cy="2581200"/>
          </a:xfrm>
          <a:prstGeom prst="rect">
            <a:avLst/>
          </a:prstGeom>
          <a:ln w="38160">
            <a:solidFill>
              <a:srgbClr val="ff99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七步：给不同岗位员工权限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设置员工权限窗口" descr=""/>
          <p:cNvPicPr/>
          <p:nvPr/>
        </p:nvPicPr>
        <p:blipFill>
          <a:blip r:embed="rId2"/>
          <a:stretch/>
        </p:blipFill>
        <p:spPr>
          <a:xfrm>
            <a:off x="658800" y="825480"/>
            <a:ext cx="7016760" cy="3416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74840" y="4334040"/>
            <a:ext cx="751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打开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企业架构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下的“</a:t>
            </a:r>
            <a:r>
              <a:rPr b="1" lang="zh-CN" sz="1200" spc="-1" strike="sngStrike">
                <a:solidFill>
                  <a:srgbClr val="292929"/>
                </a:solidFill>
                <a:latin typeface="Arial"/>
              </a:rPr>
              <a:t>员工权限设置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”，点击最后一栏的权限设置，打开权限设置窗口后，选择左边在第五步中建立的权限角色，点击 “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&gt;”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给员工授权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79600" y="3762360"/>
            <a:ext cx="60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权限支持一人多岗，一岗多人的定制方法，可通过点击 “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&gt;&gt;”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进行一个人多种权限设置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119880" y="1623960"/>
            <a:ext cx="34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4400" spc="-1" strike="sngStrike">
                <a:solidFill>
                  <a:srgbClr val="ff9900"/>
                </a:solidFill>
                <a:latin typeface="黑体"/>
                <a:ea typeface="黑体"/>
              </a:rPr>
              <a:t>谢谢</a:t>
            </a:r>
            <a:r>
              <a:rPr b="1" lang="zh-CN" sz="4400" spc="-1" strike="sngStrike">
                <a:solidFill>
                  <a:srgbClr val="99cc00"/>
                </a:solidFill>
                <a:latin typeface="黑体"/>
                <a:ea typeface="黑体"/>
              </a:rPr>
              <a:t>使用</a:t>
            </a:r>
            <a:r>
              <a:rPr b="1" lang="zh-CN" sz="4400" spc="-1" strike="sng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endParaRPr b="0" lang="en-US" sz="4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076480" y="3279600"/>
            <a:ext cx="606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内容回顾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打开主菜单 “系统管理” 按栏目名称指示操作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建立部门、员工职位（也就是岗位）、录入员工基础信息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建立不同的权限角色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给不同岗位的员工进行权限分配，完成授权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授权后的员工，使用自己的帐号与密码打开浏览器输入主机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IP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，登录系统开始使用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533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ilovePPT.ORG</cp:lastModifiedBy>
  <cp:lastPrinted>1899-12-30T00:00:00Z</cp:lastPrinted>
  <dcterms:modified xsi:type="dcterms:W3CDTF">2012-07-13T11:37:52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