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285-3836-4E34-872B-CF6D60F9E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5CD-200A-4AF5-B63B-9898BFD3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F4B-0DD1-4934-A7EE-B68B0A68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BA3-52E1-4389-A905-586F61C1B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8AF-7230-4761-B2B6-BA42F608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BB3D-5CE5-4DBD-AB1B-EB391CAB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86549-E2A7-4A25-8F64-590AA01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EDE6-7321-4B1C-91E2-1E964716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A515-4C0D-47D0-9A11-3BC205AF1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85E3-3D7D-4F56-870D-F2BD377B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BF9-3C42-4A15-A871-7E76A145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CF9-BBD1-4A74-BC3E-5C6C0369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5873-5205-46A6-BFBE-7BC09357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48BB-E3BA-4F0E-923C-3C9871D8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5CCE-24A9-44F8-A8C8-28AA4661C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A661-AAD5-4145-ABA5-6717F6E92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74703-CB9B-41C0-AA2A-507C9EAE9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0D907-5198-453C-BB02-477708434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A6641-DA2E-4260-99B5-897A1105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200CF-3626-4B54-9031-273BC882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7251E-166E-4588-AEFD-685B4EEB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A7E17-EFDB-450E-BA5A-FDE7CBADE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771-942C-4115-996D-E1AF2AE6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44920-0830-4E83-90E3-6F19450D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7C795-069C-465D-8F8A-8EF7041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BA202-7B50-43BE-91D7-6EA4C09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BFAE3-3C3E-4569-874F-1D3753DA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B445-C326-4D28-BAC8-A1304EF17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7965E-6EC0-47AF-BF9C-95A594F77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551B8-2110-483A-BA21-3D41BF9E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0A919-5D16-413C-9C63-FAF44E11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E693F-3EB2-4F94-83F7-5A8101A3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C8205-0276-4D4B-9C87-827893C1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046-2112-4CFB-A9BA-AFCE67C0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B77B9-E1D5-440E-97E7-5613916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534AB-98E3-4DFD-9252-392B4C1B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BC82-D1B1-4D6C-9AC4-3031A075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A2CF4-08D8-4EF5-B96A-7873BCC9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AE499-DA2A-47E8-84CC-D15E71372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F7E339-A043-451C-A633-588D90AD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6BDF5-5182-4AC0-A54F-FB7C71DD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A40E1-E88D-45C8-A4D9-914CC2CB4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B519-340F-42AE-AD9C-EF41DBA46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D678-73E3-4082-BF46-B6B49FDA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399F-8EA7-4B47-B46B-EFEF96AF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42F-A706-4D16-B3D5-27B34DFA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A433-690F-4C28-94AC-023482A0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E93C-5C1D-4CE4-A1D9-F183E735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0BAAD997-7B94-4024-ACDA-C90F8CDE3FD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547726A1-54BB-4977-8BB1-5520AB9B048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2B736548-CD74-43C0-B330-820277FC603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84FD8B6D-F316-4213-990A-18C01758597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707920" y="2959200"/>
            <a:ext cx="38228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系列幻灯教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771640" y="3828600"/>
            <a:ext cx="3409920" cy="3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如何快速安装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ETM</a:t>
            </a: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早教管理软件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05240" y="1973160"/>
            <a:ext cx="33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Arial"/>
              </a:rPr>
              <a:t>ETM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531800" y="912960"/>
            <a:ext cx="53150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1509840" y="892080"/>
            <a:ext cx="5314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498680" y="968400"/>
            <a:ext cx="5315040" cy="36100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895480" y="4186080"/>
            <a:ext cx="1676520" cy="325440"/>
          </a:xfrm>
          <a:prstGeom prst="wedgeRectCallout">
            <a:avLst>
              <a:gd name="adj1" fmla="val 72236"/>
              <a:gd name="adj2" fmla="val -26458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919240" y="4211640"/>
            <a:ext cx="16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点击下一步完成安装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七步：点击安装完成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517760" y="890640"/>
            <a:ext cx="53434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八步：填写注册信息生成注册码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66560" y="911160"/>
            <a:ext cx="7467840" cy="2352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23800" y="3333600"/>
            <a:ext cx="6131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输入注册信息，将生成的注册码文件放入安装目录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wwwroot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文件夹内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所有工作人员打开浏览器输入安装时的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IP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地址与端口 根据授权帐号与密码直接登录使用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800760" y="3809880"/>
            <a:ext cx="935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九步：登录系统，开始使用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448080" y="1041480"/>
            <a:ext cx="1316160" cy="1315800"/>
          </a:xfrm>
          <a:prstGeom prst="rect">
            <a:avLst/>
          </a:prstGeom>
          <a:ln w="0">
            <a:noFill/>
          </a:ln>
        </p:spPr>
      </p:pic>
      <p:grpSp>
        <p:nvGrpSpPr>
          <p:cNvPr id="206" name=""/>
          <p:cNvGrpSpPr/>
          <p:nvPr/>
        </p:nvGrpSpPr>
        <p:grpSpPr>
          <a:xfrm>
            <a:off x="2494080" y="2409840"/>
            <a:ext cx="3147840" cy="771480"/>
            <a:chOff x="2494080" y="2409840"/>
            <a:chExt cx="3147840" cy="771480"/>
          </a:xfrm>
        </p:grpSpPr>
        <p:sp>
          <p:nvSpPr>
            <p:cNvPr id="207" name=""/>
            <p:cNvSpPr/>
            <p:nvPr/>
          </p:nvSpPr>
          <p:spPr>
            <a:xfrm>
              <a:off x="2543040" y="2447640"/>
              <a:ext cx="303480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tabLst>
                  <a:tab algn="l" pos="0"/>
                  <a:tab algn="l" pos="922320"/>
                  <a:tab algn="l" pos="933480"/>
                  <a:tab algn="l" pos="944640"/>
                  <a:tab algn="l" pos="955800"/>
                  <a:tab algn="l" pos="966960"/>
                  <a:tab algn="l" pos="977760"/>
                  <a:tab algn="l" pos="988920"/>
                  <a:tab algn="l" pos="1000080"/>
                  <a:tab algn="l" pos="1011240"/>
                  <a:tab algn="l" pos="1022400"/>
                  <a:tab algn="l" pos="1033560"/>
                  <a:tab algn="l" pos="1044720"/>
                  <a:tab algn="l" pos="1055520"/>
                  <a:tab algn="l" pos="1066680"/>
                  <a:tab algn="l" pos="1077840"/>
                  <a:tab algn="l" pos="1089000"/>
                  <a:tab algn="l" pos="1100160"/>
                  <a:tab algn="l" pos="1111320"/>
                  <a:tab algn="l" pos="1122480"/>
                  <a:tab algn="l" pos="1133640"/>
                </a:tabLst>
              </a:pPr>
              <a:r>
                <a:rPr b="1" lang="zh-CN" sz="2800" spc="-1" strike="sngStrike">
                  <a:solidFill>
                    <a:srgbClr val="ff9900"/>
                  </a:solidFill>
                  <a:latin typeface="Arial"/>
                </a:rPr>
                <a:t>http://192.168.*.*  </a:t>
              </a:r>
              <a:r>
                <a:rPr b="1" lang="zh-CN" sz="1400" spc="-1" strike="sngStrike">
                  <a:solidFill>
                    <a:srgbClr val="ff9900"/>
                  </a:solidFill>
                  <a:latin typeface="Arial"/>
                </a:rPr>
                <a:t>       </a:t>
              </a:r>
              <a:endParaRPr b="0" lang="en-US" sz="1400" spc="-1" strike="sng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494080" y="2409840"/>
              <a:ext cx="3147840" cy="595440"/>
            </a:xfrm>
            <a:prstGeom prst="rect">
              <a:avLst/>
            </a:prstGeom>
            <a:noFill/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sng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2055240" y="3119400"/>
            <a:ext cx="39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2400" spc="-1" strike="sngStrike">
                <a:solidFill>
                  <a:srgbClr val="ff9900"/>
                </a:solidFill>
                <a:latin typeface="Arial"/>
              </a:rPr>
              <a:t>打开我的本地早教管家  </a:t>
            </a: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九步：成功登录系统，开始使用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68160" y="857160"/>
            <a:ext cx="699300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-119880" y="1623960"/>
            <a:ext cx="34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谢谢</a:t>
            </a:r>
            <a:r>
              <a:rPr b="1" lang="zh-CN" sz="4400" spc="-1" strike="sngStrike">
                <a:solidFill>
                  <a:srgbClr val="99cc00"/>
                </a:solidFill>
                <a:latin typeface="黑体"/>
                <a:ea typeface="黑体"/>
              </a:rPr>
              <a:t>使用</a:t>
            </a: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76480" y="3279600"/>
            <a:ext cx="606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内容回顾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准备一台安装有杀毒软件的电脑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安装微软官方提供的软件环境支持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打开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软件安装包，双击安装文件，开始一键安装，注意指定安装的目录和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IP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地址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安装成功后，输入注册授权信息，获取授权文件，将授权文件放入安装指定目录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授权员工使用安装时的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IP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地址，在自己电脑上根据帐号和密码登录使用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一步：配置电脑环境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52320" y="981000"/>
            <a:ext cx="70423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9900"/>
                </a:solidFill>
                <a:latin typeface="宋体"/>
                <a:ea typeface="宋体"/>
              </a:rPr>
              <a:t>感谢您使用</a:t>
            </a:r>
            <a:r>
              <a:rPr b="1" lang="zh-CN" sz="1400" spc="-1" strike="noStrike">
                <a:solidFill>
                  <a:srgbClr val="ff9900"/>
                </a:solidFill>
                <a:latin typeface="宋体"/>
                <a:ea typeface="宋体"/>
              </a:rPr>
              <a:t>ETM</a:t>
            </a:r>
            <a:r>
              <a:rPr b="1" lang="zh-CN" sz="1400" spc="-1" strike="noStrike">
                <a:solidFill>
                  <a:srgbClr val="ff9900"/>
                </a:solidFill>
                <a:latin typeface="宋体"/>
                <a:ea typeface="宋体"/>
              </a:rPr>
              <a:t>早教管理软件，开始之前，我们先来做好以下准备工作。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1.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您需要准备一台普通配置的办公电脑用于安装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ETM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早教管理软件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2.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如果您一直习惯于使用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windows xp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或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windows 7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，请按以下地址打开微软官方网站并下载安装，配置环境支持</a:t>
            </a: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ff9900"/>
                </a:solidFill>
                <a:latin typeface="宋体"/>
                <a:ea typeface="宋体"/>
              </a:rPr>
              <a:t>http://www.microsoft.com/zh-cn/download/details.aspx?id=1639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3.</a:t>
            </a:r>
            <a:r>
              <a:rPr b="0" lang="zh-CN" sz="1400" spc="-1" strike="noStrike">
                <a:solidFill>
                  <a:srgbClr val="808080"/>
                </a:solidFill>
                <a:latin typeface="宋体"/>
                <a:ea typeface="宋体"/>
              </a:rPr>
              <a:t>安装成功后，恭喜您，我们的准备工作已经完成</a:t>
            </a:r>
            <a:br>
              <a:rPr sz="1400"/>
            </a:br>
            <a:endParaRPr b="0" lang="en-US" sz="14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473880" y="3544920"/>
            <a:ext cx="1108080" cy="11080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39800" y="2768760"/>
            <a:ext cx="61340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二步：打开安装包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3452760" y="2219400"/>
            <a:ext cx="1000080" cy="11332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35360" y="1195560"/>
            <a:ext cx="70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sngStrike">
                <a:solidFill>
                  <a:srgbClr val="ff9900"/>
                </a:solidFill>
                <a:latin typeface="Arial"/>
              </a:rPr>
              <a:t>打开</a:t>
            </a:r>
            <a:r>
              <a:rPr b="0" lang="zh-CN" sz="2400" spc="-1" strike="sngStrike">
                <a:solidFill>
                  <a:srgbClr val="ff9900"/>
                </a:solidFill>
                <a:latin typeface="Arial"/>
              </a:rPr>
              <a:t>ETM</a:t>
            </a:r>
            <a:r>
              <a:rPr b="0" lang="zh-CN" sz="2400" spc="-1" strike="sngStrike">
                <a:solidFill>
                  <a:srgbClr val="ff9900"/>
                </a:solidFill>
                <a:latin typeface="Arial"/>
              </a:rPr>
              <a:t>早教管理软件的安装包，双击以下文件进行安装</a:t>
            </a: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三步：点击一键安装软件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557360" y="955800"/>
            <a:ext cx="5286240" cy="3590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 flipV="1" rot="13080000">
            <a:off x="4686120" y="3709800"/>
            <a:ext cx="531720" cy="395280"/>
          </a:xfrm>
          <a:custGeom>
            <a:avLst/>
            <a:gdLst>
              <a:gd name="textAreaLeft" fmla="*/ 66240 w 531720"/>
              <a:gd name="textAreaRight" fmla="*/ 465480 w 53172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四步：配置安装目录与本地访问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42960" y="939960"/>
            <a:ext cx="5315040" cy="3600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 flipV="1">
            <a:off x="4695840" y="2171880"/>
            <a:ext cx="1778040" cy="80928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41920" y="2232000"/>
            <a:ext cx="1700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选择安装的目录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访问端口和本机</a:t>
            </a: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IP</a:t>
            </a: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地址为其他电脑访问使用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五步：开始安装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509840" y="888840"/>
            <a:ext cx="531468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616040" y="968400"/>
            <a:ext cx="532440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85800" y="946080"/>
            <a:ext cx="52959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六步：安装过程展示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1603440" y="958680"/>
            <a:ext cx="5305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cp:lastPrinted>1899-12-30T00:00:00Z</cp:lastPrinted>
  <dcterms:modified xsi:type="dcterms:W3CDTF">2012-07-13T11:37:10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