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黑体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4C17F-AEB9-4699-A80B-8B99C42E072F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幻灯随便修改、删除、增加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切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保证至少一个幻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7C1C9-B63F-4793-ADF4-075364DCA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6C19B-E16E-4B30-825D-2B7B58F33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B3012-CFAF-4736-86BC-D261DA0E9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7BDD9-8385-4858-A4EB-54779995D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2FE5A-F6F7-4504-B097-0AC444AF1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4A660-FFAE-4FFD-A1D3-A22C8DCDA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5FE1D-084B-4FD3-AF50-4E0AA1C42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9F444-9AA6-4231-981D-7FCF36DC5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A9682-BBDD-4D96-A23C-530EC3890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B8005-8905-4248-9217-8051FEC12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0504F-8D8A-4314-B02F-B4BC54DF9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DDFA0-9DBB-4ABB-9008-746841474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黑体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黑体"/>
                <a:ea typeface="黑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黑体"/>
                <a:ea typeface="黑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黑体"/>
                <a:ea typeface="黑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黑体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70E7A-7C2E-420F-8E88-7355392077C3}" type="slidenum">
              <a:rPr b="0" lang="zh-CN" sz="1400" spc="-1" strike="noStrike">
                <a:solidFill>
                  <a:srgbClr val="ffffff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-396720" y="0"/>
            <a:ext cx="1647720" cy="17733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7812000" y="5589720"/>
            <a:ext cx="1663920" cy="14857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0" y="1341360"/>
            <a:ext cx="9144000" cy="230364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50000">
                <a:srgbClr val="ff8200">
                  <a:alpha val="0"/>
                </a:srgbClr>
              </a:gs>
              <a:gs pos="100000">
                <a:srgbClr val="00008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Arial"/>
                <a:ea typeface="黑体"/>
              </a:rPr>
              <a:t>2016</a:t>
            </a:r>
            <a:r>
              <a:rPr b="1" lang="zh-CN" sz="6000" spc="-1" strike="noStrike">
                <a:solidFill>
                  <a:srgbClr val="ffffff"/>
                </a:solidFill>
                <a:latin typeface="Arial"/>
                <a:ea typeface="黑体"/>
              </a:rPr>
              <a:t>全国导游大赛•决赛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4221000"/>
            <a:ext cx="91440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国家旅游局、共青团中央、全国妇联联合承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行易软件</dc:creator>
  <dc:description/>
  <dc:language>en-US</dc:language>
  <cp:lastModifiedBy>行易软件</cp:lastModifiedBy>
  <dcterms:modified xsi:type="dcterms:W3CDTF">2016-08-23T01:03:44Z</dcterms:modified>
  <cp:revision>20</cp:revision>
  <dc:subject/>
  <dc:title>自定义文件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