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4B76-8828-4C2C-9941-854EC26A85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70B-653D-4958-B8DF-1FA75EF8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DA7-B6CE-4CA9-94E1-4A95E010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1AC3-EB7F-4865-83D6-20A649A7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CEB-9786-42E9-AF87-68A2744C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96D9-C687-4CD8-BF19-89B98F89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15BD-7A4B-43F3-8BA6-E800573B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CFF6-65C2-4B5B-B347-3089F0B8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70A-1A7F-4569-9AFB-63E8EE31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55AB-CC4E-41E7-AE99-354AAB7A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78E-5779-4EF7-BABF-CC62B282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0BF-0E56-429F-A3D0-78046C11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7D5-77F0-418F-98B1-9391847C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9C7D-8BBD-47D7-8085-8D1DCBA1E4AB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590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</a:rPr>
              <a:t>赞助单位</a:t>
            </a:r>
            <a:endParaRPr b="0" lang="en-US" sz="60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1438200"/>
            <a:ext cx="806292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六研究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行易软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和谐网络科技有限责任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祺创太阳能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神光新能源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航天远征流体控制股份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438200"/>
            <a:ext cx="8610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铭越信息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航天华阳印刷包装设备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四研究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五研究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50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兵器工业集团公司第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06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研究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天惠科技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集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22Z</dcterms:modified>
  <cp:revision>33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