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DF3A-D3A3-4D9B-9C4F-C155B7ED42E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15F4-1F83-457D-B8B1-AA6C7111D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481E-C7AA-408B-9BA7-BC97FB9F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6B4B-22C0-4BA8-9E3D-7ABDDFFB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6666-3CED-4835-A5D9-1989E5EDE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8F76-3E4A-47AE-8977-41CE9311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9ED5-4F06-4642-A484-CE125570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9C04-F623-4040-9417-F2BD05FC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F70A-EB16-400A-8874-DBC9C93C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B613-3F88-46D6-A875-434C97CE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F12D-9DF1-4289-BD3C-6C5F6DA7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B823-D5F3-44AE-8113-6E0DD027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FB6D-ABF6-484D-B8EB-8EADE36A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6F3A-C5C7-4EB1-A7C0-46EF75EA1247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17480"/>
            <a:ext cx="9144000" cy="1439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国家旅游局副局长杜江致辞 </a:t>
            </a:r>
            <a:endParaRPr b="0" lang="en-US" sz="4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517840"/>
            <a:ext cx="9144000" cy="1439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陕西省副省长景俊海致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3:38Z</dcterms:modified>
  <cp:revision>18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