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AD5D-7DBB-4BB6-8B05-E1D6BB91AD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CAE-F0D7-4A14-A09E-5FA19F62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C12-929C-4917-8D6C-5DE383F4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FFC-4472-4A6D-83CF-01F118A4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1B6-3D94-48B7-B46F-ACD4F6DA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E51-B503-4DB0-8E07-31618574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26B-81C8-430C-8E35-0E3A1DF3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7D3-982E-4D0F-9994-FE292736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F13-B48D-40AB-B572-7E1838E2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27C-26B8-496A-A484-22C119C2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E8A-7D5F-4E7F-ABA0-06EF62B2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55D-9F35-48AC-8067-61E65CDE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16B-A4F9-4E9F-B0AB-D03A6406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E28A-CCC4-4BF7-A372-9F19A95BC888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8560" y="719280"/>
            <a:ext cx="70930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开根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谐网络科技公司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何惠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航天大学计算机系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建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行易软件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评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-720720" y="0"/>
            <a:ext cx="14414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简勇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易艳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黄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大学科技部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监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-324000" y="3860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54Z</dcterms:modified>
  <cp:revision>1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