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A732-37AB-4145-B6D5-43EADA59A68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B625-03D8-4011-9DB1-BCF793FB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4164-699D-4604-9091-C2DE0871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66BD-4947-48BF-ACE4-EFFE393B9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B693-A92B-46EA-8D17-D7D66B7E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732D-58AE-41B6-A634-380A320A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1F4D-CC04-46F4-8900-6AAF2A03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5097-7399-47BF-84E8-CDD23049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3A67-D7E9-45D0-BF88-BA03E0E8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32A5-82D8-4D25-BB7A-C3A33477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0061-5182-4B35-8BC4-134B1A89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5E2B-8B85-4494-BB75-8D1574B7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2D7D-8EF6-4F8E-B006-39742202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1" marL="653760" indent="-2512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2" marL="1005840" indent="-2008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3" marL="1407960" indent="-2008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4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5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6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573E-DAFB-4CEF-A9D6-A54449F6BD54}" type="slidenum"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本次大赛采用百分制，选手满分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0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本次大赛专家评审团，去掉一个最高分及一个最低分后的剩余评委的平均值，再取重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80%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即满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8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本次大赛大众评审团打分总分占选手最终实际总分的权重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0%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即满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2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大众评审团每位成员有三张打分牌：优秀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2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、良好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16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、一般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1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计分细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0" y="260280"/>
            <a:ext cx="1008000" cy="882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79640" y="620640"/>
            <a:ext cx="676908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每位选手演讲完毕后，大众评审团当场亮分，大会主持分别宣布优秀、良好、一般票数。举牌即为有效分数，不举牌即视为弃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根据有效票数，计算大众评审团总分，除以有效票数相应的满分总分，再乘以大众评审团占选手最终实际总分的满分权重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，即为该选手大众评审团部分的最终得分。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保留小数点后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位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计分细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4:14Z</dcterms:modified>
  <cp:revision>17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