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6DA1-9D0F-404C-90EC-76238FCED5F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后面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抽签结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抽签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E8AE-9AB8-43E6-AD65-FDE54DA98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BCDD-FE4D-4092-90A3-1EC490C2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D550-3314-4644-9845-0249C8C94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3E41-0750-4308-BCB6-8CAD6D9D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E2EB-C78C-43C2-AD4F-8346A5D4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2CA9-9D7B-4056-8023-395AE977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7381-0763-4D0C-8928-FBED8114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B31F-13B3-4FAC-B2E7-B50953F8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7230-A084-4A8B-983D-B787F0F2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9377-319B-44BD-ACDF-FE08460B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904E-E46B-4B9B-93D1-1F007946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3CB6-7D06-494F-B8B1-E11756BE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1844-0160-48BF-BBB1-3B4F77934A8C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抽签结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6937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4840" y="69048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48240" y="690480"/>
            <a:ext cx="3527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14670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4840" y="146196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48240" y="146052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22399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4840" y="224460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224460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0132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4840" y="3013200"/>
            <a:ext cx="4343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48240" y="3013200"/>
            <a:ext cx="35384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7861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378288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48240" y="378288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45594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4840" y="454644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48240" y="454968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53323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4840" y="532440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48240" y="532116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61056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04840" y="6093000"/>
            <a:ext cx="4343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48240" y="608472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918720" y="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918720" y="7732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18720" y="155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18720" y="2319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18720" y="30924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18720" y="38656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18720" y="4638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18720" y="54118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9680" y="0"/>
            <a:ext cx="1052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出场顺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04840" y="0"/>
            <a:ext cx="434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0"/>
            <a:ext cx="3527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选送单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/>
  <dc:description/>
  <cp:keywords/>
  <dc:language>en-US</dc:language>
  <cp:lastModifiedBy>行易软件 http://www.ExeSoft.cn</cp:lastModifiedBy>
  <dcterms:modified xsi:type="dcterms:W3CDTF">2013-07-14T09:45:19Z</dcterms:modified>
  <cp:revision>17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