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23E8-E735-4DF4-A4AF-FE701B8C256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要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CAEE-0B9B-4371-8F57-96E03FCD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5F2F-2B92-4D39-8896-2074B6A2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6822-38B0-4E83-ACB4-60907C3E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C336-AB34-4FB9-9BCB-26617D59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1509-9AC2-4D9A-8C39-B4E64A23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8277-9A0A-4836-929B-722B5E1D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92C5-A46E-448C-A0F2-10B9063E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E5BD-2CD5-4EFA-8066-D088A176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071F-6FAD-4E7D-B5BA-F3D9EA0B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3C57-89BF-4BE6-A78C-DFA50657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0A0A-EF66-4378-9421-2129CF49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6BCF-A7B4-4EF9-8CD4-B313985B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1D40-2543-43DF-99C6-2C0781BA5121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81280" y="6904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6360" y="690480"/>
            <a:ext cx="41450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4670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1280" y="146196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65840" y="14605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22399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1280" y="224460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65840" y="224460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30132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81280" y="3013200"/>
            <a:ext cx="3133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65840" y="3013200"/>
            <a:ext cx="41781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37861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81280" y="37828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65840" y="37828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45594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81280" y="454644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65840" y="45496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53323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81280" y="532440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65840" y="532116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61056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1280" y="6093000"/>
            <a:ext cx="3132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65840" y="60847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33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332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332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332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0332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332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332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5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81280" y="0"/>
            <a:ext cx="278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15080" y="0"/>
            <a:ext cx="447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44:18Z</dcterms:modified>
  <cp:revision>16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