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AD5C-DAAD-420A-9A8E-C308F7E31C8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抽签仪式活动主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及抽签滚动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此幻灯展示选手照片，照片框位于可视界面之内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3527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抽签仪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26920" y="333360"/>
            <a:ext cx="2016360" cy="295128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132000" y="404640"/>
            <a:ext cx="194472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编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"/>
          <p:cNvSpPr/>
          <p:nvPr/>
        </p:nvSpPr>
        <p:spPr>
          <a:xfrm>
            <a:off x="4788000" y="404640"/>
            <a:ext cx="36748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32000" y="1700280"/>
            <a:ext cx="651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56720" y="2349360"/>
            <a:ext cx="280836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3781440" y="4724280"/>
            <a:ext cx="356544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92720"/>
            <a:ext cx="9144000" cy="2421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黑体"/>
              </a:rPr>
              <a:t>抽签号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56720" y="3789360"/>
            <a:ext cx="4572000" cy="865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11708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30T02:57:37Z</dcterms:modified>
  <cp:revision>520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6137008</vt:r8>
  </property>
  <property fmtid="{D5CDD505-2E9C-101B-9397-08002B2CF9AE}" pid="3" name="_ReviewingToolsShownOnce">
    <vt:lpwstr/>
  </property>
  <property fmtid="{D5CDD505-2E9C-101B-9397-08002B2CF9AE}" pid="4" name="_TemplateID">
    <vt:lpwstr>TC100690501033</vt:lpwstr>
  </property>
</Properties>
</file>