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layer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74E7-69A9-455E-A9C5-E1C25A4C9B2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选手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选手信息展示幻灯。里面的文本框及图片框不能删除，但可以随意拖动。此模板展示选手照片，所以照片框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00D4-1060-4DEA-A6C3-327F1F065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01AF-F195-415E-B046-608E061D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3DE6-8D21-4571-9D88-FF4D21A5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4919-393B-4BDC-9D69-F1B91F0F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47BD-460D-4047-9671-B5EC9C01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4229-9BE7-4F56-8817-B44587D0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6901-2A0E-4316-ACED-9BE0C5B5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A03D-A5A4-440B-842F-80B00160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5334-E935-411C-AAFD-65ED3704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5F25-53DA-40E3-A2AF-B19C65D9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2879-793B-479E-806D-DB6FEB02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6C83-52D8-4036-93CA-B50B7317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41A5-BE7C-43F4-9839-545A70967E09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选手参赛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692280"/>
            <a:ext cx="2089080" cy="266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3640" y="692280"/>
            <a:ext cx="49687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及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468000" y="3789360"/>
            <a:ext cx="3097080" cy="1008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117080" y="0"/>
            <a:ext cx="1692360" cy="620640"/>
          </a:xfrm>
          <a:prstGeom prst="foldedCorner">
            <a:avLst>
              <a:gd name="adj" fmla="val 12500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6-12-02T02:52:25Z</dcterms:modified>
  <cp:revision>11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