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W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94EB-252E-4990-93C2-5AA4F325A66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评委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评委信息展示幻灯。里面的文本框及图片框不能删除，但可以随意拖动。此模板展示评委照片，所以照片框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8E7C-F0E8-4A2B-B044-4FCB325A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1145-7DDE-4C26-A257-E338D454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0ECD-7465-473D-B11E-764A5AD1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2925-2B29-4B02-B4D6-705BB7C7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CDFB-E594-47A0-8B3B-E66E8859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3ED7-1274-4A88-B559-E590A2B6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D7A4-CB2D-472A-AAA3-A657BB14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568F-DA28-4F96-A68B-7C835BEE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0B91-1402-4A6B-BEB2-574DCA02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8D29-AD12-4C46-A399-071AF442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338C-3A37-422E-958B-5E2620BC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9295-36F4-463E-89F5-4DC74504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B2C9-F578-4657-A07A-D4DD5225C162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专家评委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692280"/>
            <a:ext cx="2089080" cy="266364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692280"/>
            <a:ext cx="4968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评委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3716280"/>
            <a:ext cx="720072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评委描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28T11:16:22Z</dcterms:modified>
  <cp:revision>11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