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B340-EC62-42DF-B845-54CC85D457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4B1-AF74-4F1B-986F-E3FE05A4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0B8-97B8-4FDD-A71F-3AFB9735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CC1-27DE-40EC-9623-30191CF9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22B5-D4E4-44BC-B9D3-E3D8EE1E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F92-B0DD-48EB-9990-CC1D72D4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D28-C5D5-4B82-9DA2-5CE05AB2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D35-A296-4766-8C10-C1996C81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3E2-3A9F-41F1-B5E0-33375455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246-9831-4D64-8B3B-94B4AB69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881-8D62-4F36-B228-7554780F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9C3-5699-4CF6-B153-99EDB844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096-8406-411B-97A1-40D3F6A7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17D3-9EE7-4D16-8F50-65A2C1CAE54B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2728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964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</cp:lastModifiedBy>
  <dcterms:modified xsi:type="dcterms:W3CDTF">2017-02-19T02:05:45Z</dcterms:modified>
  <cp:revision>305</cp:revision>
  <dc:subject/>
  <dc:title>幻灯片 1</dc:title>
</cp:coreProperties>
</file>