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BA46-3E2E-4F8D-9A68-89FEF48D098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所有项目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得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6364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37120" y="83664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7120" y="90792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1124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124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14480" y="2421000"/>
            <a:ext cx="79236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14480" y="3500280"/>
            <a:ext cx="792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2276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2276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27440" y="2421000"/>
            <a:ext cx="79236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27440" y="3500280"/>
            <a:ext cx="792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30680" y="2421000"/>
            <a:ext cx="79236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30680" y="3500280"/>
            <a:ext cx="792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3572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3572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38960" y="2421000"/>
            <a:ext cx="79236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38960" y="3500280"/>
            <a:ext cx="792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4400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4400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612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612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691640" y="4428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91640" y="141300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77308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77308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852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852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9334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9334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974920" y="4608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9749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5520" y="-2187720"/>
            <a:ext cx="1150920" cy="463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3340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7332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0356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1180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4168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5136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8160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128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2152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54908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510080"/>
            <a:ext cx="914400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5734080"/>
            <a:ext cx="5867280" cy="719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684360" y="7966080"/>
            <a:ext cx="313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805360"/>
            <a:ext cx="313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6364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40464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7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15600" y="227664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61236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0" y="-420372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45000"/>
            <a:ext cx="359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91636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7597800" y="685800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1-30T04:07:59Z</dcterms:modified>
  <cp:revision>664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