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  <p:custShowLst>
    <p:custShow name="ShowBlank" id="0">
      <p:sldLst>
        <p:sld r:id="rId7"/>
      </p:sldLst>
    </p:custShow>
    <p:custShow name="ShowBJ" id="1">
      <p:sldLst>
        <p:sld r:id="rId8"/>
      </p:sldLst>
    </p:custShow>
    <p:custShow name="ShowIndex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EE51-2102-408C-88D9-800767228A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颁奖主题幻灯。文本框内容将被打分软件动态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为颁奖信息展示幻灯。有效对象数量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8CA-22E2-44B9-8EE9-ED5BEC55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BE5-42C3-4241-88BD-1273ED31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8F5-44A3-41FB-8A59-25466875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8E4-2E6E-4BDA-B63E-F7F3C6B3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C78F-F630-4DE0-ABF6-3D5A64A6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166C-990E-499B-96B5-56FECAC7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6EED-F9A0-4A90-B683-5258DE56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0B27-BE84-4EB4-9A7A-D541C2DC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E3BB-2636-43A6-884F-37E49F69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8938-BC4C-4335-946A-F8DC1EA8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AAA3-3212-4667-A362-DB263EE8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0D0-DFBF-4709-AD62-312EEACD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511B-D1B4-44FC-AAB1-9441FF25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403C-EFCF-491E-98A3-31702800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E88D-8455-47ED-93C5-DA46103D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937B-33CE-4BE5-B7AC-B12AF68A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81C0-B04F-461E-AA1B-04C5D9E2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4430-B0D2-48DB-B850-789C04D5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20F-7B53-477A-8445-D45E1DFD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071-A34A-486C-9E24-20C0AB6E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88C-83D3-4F22-A6F7-4B801886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316-904A-4F63-8146-70935D60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57BA-25C6-4EE5-8948-64DA2B84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12C-8680-46B6-9CDF-74218816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3975-FE60-4327-BD82-0180F74C16AE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04360" y="-63720"/>
            <a:ext cx="1836360" cy="2036880"/>
            <a:chOff x="1404360" y="-6372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2458800" y="1260360"/>
              <a:ext cx="586080" cy="572040"/>
              <a:chOff x="2458800" y="12603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2522160" y="1329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2692440" y="15210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3880" y="656280"/>
              <a:ext cx="586080" cy="572040"/>
              <a:chOff x="2333880" y="6562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2397240" y="7254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2567520" y="9169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04360" y="130680"/>
              <a:ext cx="586080" cy="572040"/>
              <a:chOff x="1404360" y="1306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1467720" y="1998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1638000" y="3916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97960" y="-63720"/>
              <a:ext cx="1742760" cy="2036880"/>
              <a:chOff x="1497960" y="-6372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770840" y="152640"/>
                <a:ext cx="870120" cy="842760"/>
                <a:chOff x="1770840" y="1526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1863360" y="2559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2116080" y="4953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599120" y="-6120"/>
                <a:ext cx="1326600" cy="1370520"/>
                <a:chOff x="1599120" y="-612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209320" y="498240"/>
                  <a:ext cx="690480" cy="443880"/>
                  <a:chOff x="2209320" y="4982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2202480" y="5968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2615400" y="7776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248560" y="467640"/>
                  <a:ext cx="677160" cy="354600"/>
                  <a:chOff x="2248560" y="4676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2254320" y="5155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2682000" y="6368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236320" y="447840"/>
                  <a:ext cx="642960" cy="227880"/>
                  <a:chOff x="2236320" y="4478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2239200" y="4647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2655360" y="5259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2223720" y="398520"/>
                  <a:ext cx="621360" cy="180360"/>
                  <a:chOff x="2223720" y="3985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2226240" y="4104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2629080" y="4168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2203560" y="276840"/>
                  <a:ext cx="577440" cy="210240"/>
                  <a:chOff x="2203560" y="2768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2209320" y="3524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2572200" y="2977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198160" y="194760"/>
                  <a:ext cx="502560" cy="254880"/>
                  <a:chOff x="2198160" y="1947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2197440" y="323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2511720" y="2250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2179440" y="115560"/>
                  <a:ext cx="415080" cy="315720"/>
                  <a:chOff x="2179440" y="1155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2171520" y="290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2424960" y="1508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874160" y="582480"/>
                  <a:ext cx="317880" cy="744840"/>
                  <a:chOff x="1874160" y="5824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1802880" y="7941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1844280" y="11217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1734480" y="600840"/>
                  <a:ext cx="426960" cy="679680"/>
                  <a:chOff x="1734480" y="6008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1788480" y="7552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1749600" y="10609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1679760" y="567720"/>
                  <a:ext cx="470160" cy="592200"/>
                  <a:chOff x="1679760" y="5677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1776960" y="7038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1695960" y="9615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626840" y="536040"/>
                  <a:ext cx="517320" cy="527760"/>
                  <a:chOff x="1626840" y="5360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1764360" y="6498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1651680" y="8593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599120" y="503280"/>
                  <a:ext cx="524160" cy="408960"/>
                  <a:chOff x="1599120" y="5032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1761480" y="5857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1621440" y="7297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605240" y="493920"/>
                  <a:ext cx="494280" cy="268560"/>
                  <a:chOff x="1605240" y="4939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1769040" y="5482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1616400" y="6343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641960" y="473040"/>
                  <a:ext cx="451440" cy="151560"/>
                  <a:chOff x="1641960" y="4730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1801080" y="493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1648080" y="5144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651320" y="450720"/>
                  <a:ext cx="448560" cy="100800"/>
                  <a:chOff x="1651320" y="4507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1810440" y="4676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1650960" y="4507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660320" y="339480"/>
                  <a:ext cx="462960" cy="184320"/>
                  <a:chOff x="1660320" y="3394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1830600" y="430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1668960" y="3546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669680" y="230400"/>
                  <a:ext cx="465480" cy="268200"/>
                  <a:chOff x="1669680" y="2304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1840320" y="3805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1682280" y="2570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749240" y="160200"/>
                  <a:ext cx="421200" cy="339840"/>
                  <a:chOff x="1749240" y="1602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1861920" y="3585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1755360" y="2037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813320" y="105480"/>
                  <a:ext cx="365760" cy="386640"/>
                  <a:chOff x="1813320" y="1054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1897200" y="3348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1815120" y="1544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152440" y="56880"/>
                  <a:ext cx="380880" cy="368640"/>
                  <a:chOff x="2152440" y="568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2134080" y="2710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2365560" y="964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2129400" y="9720"/>
                  <a:ext cx="331920" cy="420120"/>
                  <a:chOff x="2129400" y="97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2095920" y="2628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2297160" y="518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1938600" y="3355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1884600" y="1486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116080" y="8280"/>
                  <a:ext cx="83880" cy="472320"/>
                  <a:chOff x="2116080" y="82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1991880" y="3009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2076120" y="604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2096640" y="-6120"/>
                  <a:ext cx="257040" cy="488880"/>
                  <a:chOff x="2096640" y="-612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2019600" y="2811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2181960" y="478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39040" y="41400"/>
                  <a:ext cx="123480" cy="423000"/>
                  <a:chOff x="2039040" y="414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1979640" y="3153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1995840" y="1026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984320" y="595440"/>
                  <a:ext cx="212400" cy="768960"/>
                  <a:chOff x="1984320" y="5954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1845000" y="814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1935720" y="11610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2113200" y="626040"/>
                  <a:ext cx="144360" cy="709560"/>
                  <a:chOff x="2113200" y="6260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1917360" y="824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2071800" y="11509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2137680" y="618480"/>
                  <a:ext cx="241200" cy="684000"/>
                  <a:chOff x="2137680" y="6184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1984680" y="813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2184840" y="11221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210040" y="534960"/>
                  <a:ext cx="662040" cy="520920"/>
                  <a:chOff x="2210040" y="5349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2192400" y="6602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2588760" y="8787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2217240" y="555840"/>
                  <a:ext cx="576720" cy="587520"/>
                  <a:chOff x="2217240" y="5558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2180880" y="706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2528640" y="9608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2217240" y="585360"/>
                  <a:ext cx="480960" cy="616680"/>
                  <a:chOff x="2217240" y="5853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2154960" y="7556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2454840" y="10306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222280" y="612720"/>
                  <a:ext cx="368640" cy="616680"/>
                  <a:chOff x="2222280" y="6127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2138400" y="7862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2376720" y="10605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2211120" y="636120"/>
                  <a:ext cx="219600" cy="641880"/>
                  <a:chOff x="2211120" y="6361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2076840" y="8244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2252880" y="11246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2149200" y="754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2030040" y="4705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2229480" y="234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2064240" y="4734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1877760" y="538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1791360" y="4305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2402280" y="4107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2383200" y="379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2342520" y="2725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2475360" y="7059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2224080" y="6458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1722960" y="3448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1728360" y="2059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2332080" y="3416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1845000" y="8866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1784880" y="416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1913040" y="2350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2679120" y="4903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2444040" y="2962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2360160" y="136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2316240" y="4125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1969920" y="5421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876400" y="-180720"/>
            <a:ext cx="1402200" cy="1913400"/>
            <a:chOff x="2876400" y="-180720"/>
            <a:chExt cx="140220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3521160" y="1244160"/>
              <a:ext cx="482040" cy="458280"/>
              <a:chOff x="3521160" y="1244160"/>
              <a:chExt cx="48204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3532680" y="1256400"/>
                <a:ext cx="45864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697920" y="14464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592800" y="631440"/>
              <a:ext cx="482400" cy="458280"/>
              <a:chOff x="3592800" y="63144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3604320" y="643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769920" y="8337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76400" y="-159840"/>
              <a:ext cx="482400" cy="458280"/>
              <a:chOff x="2876400" y="-15984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887920" y="-14724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3053880" y="42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884680" y="-180720"/>
              <a:ext cx="1393920" cy="1913400"/>
              <a:chOff x="2884680" y="-180720"/>
              <a:chExt cx="139392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191400" y="42120"/>
                <a:ext cx="718560" cy="672480"/>
                <a:chOff x="3191400" y="4212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3208320" y="6048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3467880" y="2937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884680" y="-180720"/>
                <a:ext cx="1319760" cy="1297080"/>
                <a:chOff x="2884680" y="-180720"/>
                <a:chExt cx="131976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556440" y="317160"/>
                  <a:ext cx="569880" cy="615240"/>
                  <a:chOff x="3556440" y="31716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3515400" y="47772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850200" y="74088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592800" y="298440"/>
                  <a:ext cx="611640" cy="531000"/>
                  <a:chOff x="3592800" y="29844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3587760" y="402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951000" y="62028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3591000" y="270720"/>
                  <a:ext cx="610560" cy="412560"/>
                  <a:chOff x="3591000" y="27072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3592080" y="347040"/>
                    <a:ext cx="4064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964320" y="50544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3589560" y="240840"/>
                  <a:ext cx="609480" cy="331200"/>
                  <a:chOff x="3589560" y="240840"/>
                  <a:chExt cx="60948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3595320" y="289080"/>
                    <a:ext cx="3927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971520" y="39204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597120" y="210600"/>
                  <a:ext cx="560160" cy="200160"/>
                  <a:chOff x="3597120" y="21060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3600000" y="224640"/>
                    <a:ext cx="36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957480" y="25884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601080" y="162360"/>
                  <a:ext cx="509760" cy="114120"/>
                  <a:chOff x="3601080" y="16236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3602880" y="188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930480" y="16884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3586680" y="48240"/>
                  <a:ext cx="451080" cy="198000"/>
                  <a:chOff x="3586680" y="48240"/>
                  <a:chExt cx="45108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3589560" y="1425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871440" y="6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012840" y="361080"/>
                  <a:ext cx="513000" cy="660960"/>
                  <a:chOff x="3012840" y="36108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3074400" y="53892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3009960" y="82404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908440" y="363240"/>
                  <a:ext cx="573840" cy="579600"/>
                  <a:chOff x="2908440" y="36324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3070800" y="483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933280" y="7286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896200" y="334080"/>
                  <a:ext cx="584280" cy="467640"/>
                  <a:chOff x="2896200" y="33408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3077640" y="4284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916720" y="61668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884680" y="303480"/>
                  <a:ext cx="595080" cy="388800"/>
                  <a:chOff x="2884680" y="303480"/>
                  <a:chExt cx="595080" cy="388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3082320" y="370800"/>
                    <a:ext cx="3927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905560" y="50400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907720" y="271440"/>
                  <a:ext cx="561600" cy="259200"/>
                  <a:chOff x="2907720" y="27144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3101400" y="30456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919600" y="36936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950560" y="262440"/>
                  <a:ext cx="505080" cy="116640"/>
                  <a:chOff x="2950560" y="26244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3125160" y="267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951640" y="275400"/>
                    <a:ext cx="176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012840" y="155160"/>
                  <a:ext cx="453600" cy="151560"/>
                  <a:chOff x="3012840" y="155160"/>
                  <a:chExt cx="45360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3173760" y="2181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3020040" y="16776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031920" y="87840"/>
                  <a:ext cx="451080" cy="216360"/>
                  <a:chOff x="3031920" y="87840"/>
                  <a:chExt cx="451080" cy="2163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3191040" y="19692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3043080" y="109440"/>
                    <a:ext cx="154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076560" y="-9360"/>
                  <a:ext cx="430920" cy="309600"/>
                  <a:chOff x="3076560" y="-936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3221640" y="1677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3090960" y="23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120840" y="-103680"/>
                  <a:ext cx="404280" cy="381240"/>
                  <a:chOff x="3120840" y="-10368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3247200" y="12528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3133800" y="-6372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3227040" y="-142920"/>
                  <a:ext cx="325440" cy="431640"/>
                  <a:chOff x="3227040" y="-14292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3275280" y="11628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3222360" y="-8820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3308400" y="-171000"/>
                  <a:ext cx="253800" cy="452160"/>
                  <a:chOff x="3308400" y="-171000"/>
                  <a:chExt cx="253800" cy="45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3317760" y="103320"/>
                    <a:ext cx="3128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3294720" y="-117360"/>
                    <a:ext cx="1681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3561120" y="-30960"/>
                  <a:ext cx="440640" cy="265680"/>
                  <a:chOff x="3561120" y="-3096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3560760" y="1126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832920" y="-252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534840" y="-101880"/>
                  <a:ext cx="416520" cy="335880"/>
                  <a:chOff x="3534840" y="-101880"/>
                  <a:chExt cx="416520" cy="3358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3526560" y="92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781440" y="-6588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3359520" y="11520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3366360" y="-10044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495960" y="-180720"/>
                  <a:ext cx="225720" cy="456480"/>
                  <a:chOff x="3495960" y="-18072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3418920" y="10080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3574080" y="-12384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3483000" y="-153720"/>
                  <a:ext cx="378360" cy="430200"/>
                  <a:chOff x="3483000" y="-153720"/>
                  <a:chExt cx="37836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3447000" y="9468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673080" y="-101520"/>
                    <a:ext cx="1828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25120" y="-172080"/>
                  <a:ext cx="63360" cy="429480"/>
                  <a:chOff x="3525120" y="-17208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3406680" y="10620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3490560" y="-11124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3099960" y="373680"/>
                  <a:ext cx="429480" cy="720000"/>
                  <a:chOff x="3099960" y="37368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3107880" y="571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3084840" y="89064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3247920" y="401400"/>
                  <a:ext cx="273960" cy="714960"/>
                  <a:chOff x="3247920" y="40140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3174480" y="59868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3217320" y="9205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3387960" y="410760"/>
                  <a:ext cx="145800" cy="696240"/>
                  <a:chOff x="3387960" y="410760"/>
                  <a:chExt cx="14580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3243960" y="605880"/>
                    <a:ext cx="4514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3334680" y="928080"/>
                    <a:ext cx="2422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546720" y="354600"/>
                  <a:ext cx="514440" cy="672840"/>
                  <a:chOff x="3546720" y="354600"/>
                  <a:chExt cx="51444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3486240" y="5346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791880" y="82908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550320" y="379440"/>
                  <a:ext cx="405360" cy="701640"/>
                  <a:chOff x="3550320" y="37944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3461400" y="571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710880" y="88560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3545640" y="406800"/>
                  <a:ext cx="292320" cy="701280"/>
                  <a:chOff x="3545640" y="40680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3423600" y="60768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3621960" y="9280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3544920" y="436320"/>
                  <a:ext cx="178200" cy="660600"/>
                  <a:chOff x="3544920" y="436320"/>
                  <a:chExt cx="17820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3399480" y="62568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3538800" y="928440"/>
                    <a:ext cx="2329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479040" y="450360"/>
                  <a:ext cx="97200" cy="649440"/>
                  <a:chOff x="3479040" y="45036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3331800" y="64116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3405240" y="9500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3368160" y="538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3176640" y="347040"/>
                <a:ext cx="99468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3538440" y="-54720"/>
                <a:ext cx="7070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3222360" y="27252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3018960" y="31284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970000" y="18684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3570840" y="2685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3558600" y="261360"/>
                <a:ext cx="29124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3550680" y="1663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693240" y="59580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3503520" y="46296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932560" y="8424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984400" y="-6264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3522600" y="20196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3031920" y="59004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3125520" y="110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3305520" y="-3096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945600" y="473400"/>
                <a:ext cx="23580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805200" y="237960"/>
                <a:ext cx="35532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803040" y="-9000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664440" y="27000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3295080" y="28440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-3292200" y="-876960"/>
            <a:ext cx="2895840" cy="2538360"/>
            <a:chOff x="-3292200" y="-876960"/>
            <a:chExt cx="2895840" cy="2538360"/>
          </a:xfrm>
        </p:grpSpPr>
        <p:grpSp>
          <p:nvGrpSpPr>
            <p:cNvPr id="546" name=""/>
            <p:cNvGrpSpPr/>
            <p:nvPr/>
          </p:nvGrpSpPr>
          <p:grpSpPr>
            <a:xfrm>
              <a:off x="-2249640" y="624960"/>
              <a:ext cx="975240" cy="789480"/>
              <a:chOff x="-2249640" y="624960"/>
              <a:chExt cx="975240" cy="789480"/>
            </a:xfrm>
          </p:grpSpPr>
          <p:sp>
            <p:nvSpPr>
              <p:cNvPr id="547" name=""/>
              <p:cNvSpPr/>
              <p:nvPr/>
            </p:nvSpPr>
            <p:spPr>
              <a:xfrm flipH="1" rot="19584600">
                <a:off x="-2246400" y="86724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rot="19584600">
                <a:off x="-1857240" y="9882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-2671560" y="392400"/>
              <a:ext cx="975240" cy="789480"/>
              <a:chOff x="-2671560" y="392400"/>
              <a:chExt cx="975240" cy="789480"/>
            </a:xfrm>
          </p:grpSpPr>
          <p:sp>
            <p:nvSpPr>
              <p:cNvPr id="550" name=""/>
              <p:cNvSpPr/>
              <p:nvPr/>
            </p:nvSpPr>
            <p:spPr>
              <a:xfrm flipH="1" rot="19584600">
                <a:off x="-2668320" y="63468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rot="19584600">
                <a:off x="-2278800" y="75564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-1814400" y="-876960"/>
              <a:ext cx="975240" cy="789480"/>
              <a:chOff x="-1814400" y="-876960"/>
              <a:chExt cx="975240" cy="789480"/>
            </a:xfrm>
          </p:grpSpPr>
          <p:sp>
            <p:nvSpPr>
              <p:cNvPr id="553" name=""/>
              <p:cNvSpPr/>
              <p:nvPr/>
            </p:nvSpPr>
            <p:spPr>
              <a:xfrm flipH="1" rot="19584600">
                <a:off x="-1811160" y="-63432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19584600">
                <a:off x="-1421640" y="-5130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-3292200" y="-745920"/>
              <a:ext cx="2895840" cy="2407320"/>
              <a:chOff x="-3292200" y="-745920"/>
              <a:chExt cx="2895840" cy="2407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-2652120" y="-388080"/>
                <a:ext cx="1450080" cy="1171080"/>
                <a:chOff x="-2652120" y="-388080"/>
                <a:chExt cx="1450080" cy="11710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19584600">
                  <a:off x="-2649240" y="-25560"/>
                  <a:ext cx="1444320" cy="44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19584600">
                  <a:off x="-2057040" y="125280"/>
                  <a:ext cx="2862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-3011760" y="-584640"/>
                <a:ext cx="2407680" cy="1810800"/>
                <a:chOff x="-3011760" y="-584640"/>
                <a:chExt cx="2407680" cy="181080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-2616480" y="340200"/>
                  <a:ext cx="485640" cy="715680"/>
                  <a:chOff x="-2616480" y="340200"/>
                  <a:chExt cx="485640" cy="7156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16873200">
                    <a:off x="-2419920" y="453240"/>
                    <a:ext cx="3574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rot="16873200">
                    <a:off x="-2575440" y="81684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-2802960" y="104760"/>
                  <a:ext cx="676440" cy="1121400"/>
                  <a:chOff x="-2802960" y="104760"/>
                  <a:chExt cx="676440" cy="11214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7481000">
                    <a:off x="-2772000" y="49932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7481000">
                    <a:off x="-2903760" y="924840"/>
                    <a:ext cx="481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-2896560" y="110160"/>
                  <a:ext cx="793800" cy="1040040"/>
                  <a:chOff x="-2896560" y="110160"/>
                  <a:chExt cx="793800" cy="10400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8001200">
                    <a:off x="-2774160" y="465480"/>
                    <a:ext cx="857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8001200">
                    <a:off x="-2969280" y="87696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-2976480" y="119520"/>
                  <a:ext cx="896400" cy="964440"/>
                  <a:chOff x="-2976480" y="119520"/>
                  <a:chExt cx="896400" cy="96444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8504600">
                    <a:off x="-2779200" y="430920"/>
                    <a:ext cx="8287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8504600">
                    <a:off x="-3018240" y="820440"/>
                    <a:ext cx="445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-3011760" y="140400"/>
                  <a:ext cx="941760" cy="810000"/>
                  <a:chOff x="-3011760" y="140400"/>
                  <a:chExt cx="941760" cy="8100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rot="19121400">
                    <a:off x="-2759760" y="384120"/>
                    <a:ext cx="763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19121400">
                    <a:off x="-3029040" y="726120"/>
                    <a:ext cx="4104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-2992320" y="171000"/>
                  <a:ext cx="918360" cy="633600"/>
                  <a:chOff x="-2992320" y="171000"/>
                  <a:chExt cx="918360" cy="633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flipH="1" rot="19669200">
                    <a:off x="-2726640" y="352080"/>
                    <a:ext cx="6940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rot="19669200">
                    <a:off x="-3002040" y="640080"/>
                    <a:ext cx="372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-2910240" y="185760"/>
                  <a:ext cx="860760" cy="443880"/>
                  <a:chOff x="-2910240" y="185760"/>
                  <a:chExt cx="860760" cy="4438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20387400">
                    <a:off x="-2648520" y="289440"/>
                    <a:ext cx="609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rot="20387400">
                    <a:off x="-2908080" y="50544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-1640880" y="-164520"/>
                  <a:ext cx="777960" cy="311400"/>
                  <a:chOff x="-1640880" y="-164520"/>
                  <a:chExt cx="777960" cy="3114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696000">
                    <a:off x="-1628640" y="-42120"/>
                    <a:ext cx="3574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696000">
                    <a:off x="-1076760" y="-147600"/>
                    <a:ext cx="19188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-1837800" y="-243360"/>
                  <a:ext cx="1233720" cy="249120"/>
                  <a:chOff x="-1837800" y="-243360"/>
                  <a:chExt cx="1233720" cy="2491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88200">
                    <a:off x="-1836720" y="-7776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88200">
                    <a:off x="-1087200" y="-237240"/>
                    <a:ext cx="481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-1845000" y="-349920"/>
                  <a:ext cx="1212480" cy="359640"/>
                  <a:chOff x="-1845000" y="-349920"/>
                  <a:chExt cx="1212480" cy="35964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21168000">
                    <a:off x="-1844280" y="-106920"/>
                    <a:ext cx="8582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21168000">
                    <a:off x="-1096920" y="-32112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-1844640" y="-457200"/>
                  <a:ext cx="1181520" cy="495360"/>
                  <a:chOff x="-1844640" y="-457200"/>
                  <a:chExt cx="1181520" cy="495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20665200">
                    <a:off x="-1850400" y="-140400"/>
                    <a:ext cx="829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20665200">
                    <a:off x="-1114560" y="-399240"/>
                    <a:ext cx="44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-1834560" y="-544320"/>
                  <a:ext cx="1069200" cy="602640"/>
                  <a:chOff x="-1834560" y="-544320"/>
                  <a:chExt cx="1069200" cy="602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0048400">
                    <a:off x="-1858320" y="-169560"/>
                    <a:ext cx="763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0048400">
                    <a:off x="-1176480" y="-459720"/>
                    <a:ext cx="410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-1811880" y="-576360"/>
                  <a:ext cx="915480" cy="639000"/>
                  <a:chOff x="-1811880" y="-576360"/>
                  <a:chExt cx="915480" cy="6390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19500000">
                    <a:off x="-1861560" y="-177120"/>
                    <a:ext cx="694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9500000">
                    <a:off x="-1254960" y="-475560"/>
                    <a:ext cx="372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-1811520" y="-570960"/>
                  <a:ext cx="727920" cy="662040"/>
                  <a:chOff x="-1811520" y="-570960"/>
                  <a:chExt cx="727920" cy="662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8782400">
                    <a:off x="-1891800" y="-168840"/>
                    <a:ext cx="60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8782400">
                    <a:off x="-1383840" y="-462240"/>
                    <a:ext cx="326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-1821960" y="-584640"/>
                  <a:ext cx="655560" cy="710640"/>
                  <a:chOff x="-1821960" y="-584640"/>
                  <a:chExt cx="655560" cy="710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8307200">
                    <a:off x="-1933200" y="-158040"/>
                    <a:ext cx="609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8307200">
                    <a:off x="-1452600" y="-46548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-1833480" y="-583560"/>
                  <a:ext cx="516600" cy="758880"/>
                  <a:chOff x="-1833480" y="-583560"/>
                  <a:chExt cx="516600" cy="7588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17556600">
                    <a:off x="-2000880" y="-136800"/>
                    <a:ext cx="610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7556600">
                    <a:off x="-1575720" y="-453600"/>
                    <a:ext cx="327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-1848960" y="-581040"/>
                  <a:ext cx="384480" cy="784080"/>
                  <a:chOff x="-1848960" y="-581040"/>
                  <a:chExt cx="384480" cy="78408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6920000">
                    <a:off x="-2072160" y="-126000"/>
                    <a:ext cx="618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6920000">
                    <a:off x="-1699200" y="-445680"/>
                    <a:ext cx="3326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1902600" y="-376200"/>
                  <a:ext cx="270720" cy="431280"/>
                  <a:chOff x="-1902600" y="-376200"/>
                  <a:chExt cx="270720" cy="4312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6111200">
                    <a:off x="-1960560" y="-113400"/>
                    <a:ext cx="2282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111200">
                    <a:off x="-1778040" y="-396360"/>
                    <a:ext cx="1224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-1991880" y="-321120"/>
                  <a:ext cx="234720" cy="416880"/>
                  <a:chOff x="-1991880" y="-321120"/>
                  <a:chExt cx="234720" cy="4168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5457800">
                    <a:off x="-2026080" y="-75960"/>
                    <a:ext cx="219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5457800">
                    <a:off x="-1910160" y="-328680"/>
                    <a:ext cx="1180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-2878200" y="179280"/>
                  <a:ext cx="873000" cy="344520"/>
                  <a:chOff x="-2878200" y="179280"/>
                  <a:chExt cx="873000" cy="344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20910600">
                    <a:off x="-2612880" y="239400"/>
                    <a:ext cx="609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20910600">
                    <a:off x="-2874600" y="421560"/>
                    <a:ext cx="32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-2818800" y="180000"/>
                  <a:ext cx="865440" cy="222120"/>
                  <a:chOff x="-2818800" y="180000"/>
                  <a:chExt cx="865440" cy="2221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1505800">
                    <a:off x="-2563920" y="188280"/>
                    <a:ext cx="610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1505800">
                    <a:off x="-2818080" y="327240"/>
                    <a:ext cx="3276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 rot="15006000">
                  <a:off x="-2083680" y="-13320"/>
                  <a:ext cx="213120" cy="71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5006000">
                  <a:off x="-2027160" y="-216360"/>
                  <a:ext cx="114120" cy="1134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2429280" y="-8280"/>
                  <a:ext cx="453240" cy="198360"/>
                  <a:chOff x="-2429280" y="-8280"/>
                  <a:chExt cx="453240" cy="1983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rot="1842600">
                    <a:off x="-2204280" y="48960"/>
                    <a:ext cx="22032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rot="1842600">
                    <a:off x="-2400840" y="11880"/>
                    <a:ext cx="1180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-2592720" y="55800"/>
                  <a:ext cx="558360" cy="290160"/>
                  <a:chOff x="-2592720" y="55800"/>
                  <a:chExt cx="558360" cy="2901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flipH="1" rot="762000">
                    <a:off x="-2285280" y="80280"/>
                    <a:ext cx="239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762000">
                    <a:off x="-2571480" y="126000"/>
                    <a:ext cx="1285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-2245320" y="-91440"/>
                  <a:ext cx="278640" cy="237240"/>
                  <a:chOff x="-2245320" y="-91440"/>
                  <a:chExt cx="278640" cy="237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rot="2888400">
                    <a:off x="-2147040" y="36720"/>
                    <a:ext cx="197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2888400">
                    <a:off x="-2238480" y="-63000"/>
                    <a:ext cx="105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-1684440" y="-47880"/>
                  <a:ext cx="736920" cy="294120"/>
                  <a:chOff x="-1684440" y="-47880"/>
                  <a:chExt cx="736920" cy="2941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248600">
                    <a:off x="-1668600" y="14760"/>
                    <a:ext cx="3571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rot="1248600">
                    <a:off x="-1175760" y="-2160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-1738080" y="5040"/>
                  <a:ext cx="602280" cy="405000"/>
                  <a:chOff x="-1738080" y="5040"/>
                  <a:chExt cx="602280" cy="4050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2041800">
                    <a:off x="-1723320" y="84240"/>
                    <a:ext cx="3304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2041800">
                    <a:off x="-1365120" y="139320"/>
                    <a:ext cx="1771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-1817640" y="72360"/>
                  <a:ext cx="475560" cy="465840"/>
                  <a:chOff x="-1817640" y="72360"/>
                  <a:chExt cx="475560" cy="4658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713800">
                    <a:off x="-1815120" y="164160"/>
                    <a:ext cx="31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2713800">
                    <a:off x="-1564560" y="291600"/>
                    <a:ext cx="170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-2463840" y="341280"/>
                  <a:ext cx="390600" cy="676800"/>
                  <a:chOff x="-2463840" y="341280"/>
                  <a:chExt cx="390600" cy="6768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rot="16440600">
                    <a:off x="-2341800" y="447480"/>
                    <a:ext cx="357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6440600">
                    <a:off x="-2432160" y="792360"/>
                    <a:ext cx="1915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-2283120" y="323280"/>
                  <a:ext cx="290520" cy="617760"/>
                  <a:chOff x="-2283120" y="323280"/>
                  <a:chExt cx="290520" cy="617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rot="15839400">
                    <a:off x="-2254680" y="426960"/>
                    <a:ext cx="3420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15839400">
                    <a:off x="-2249640" y="721800"/>
                    <a:ext cx="18324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-2099160" y="285840"/>
                  <a:ext cx="230760" cy="569160"/>
                  <a:chOff x="-2099160" y="285840"/>
                  <a:chExt cx="230760" cy="56916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H="1" rot="15298200">
                    <a:off x="-2157480" y="401040"/>
                    <a:ext cx="3315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15298200">
                    <a:off x="-2072880" y="648720"/>
                    <a:ext cx="1778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-2027880" y="255960"/>
                  <a:ext cx="329400" cy="491040"/>
                  <a:chOff x="-2027880" y="255960"/>
                  <a:chExt cx="329400" cy="4910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 rot="14686200">
                    <a:off x="-2060280" y="358920"/>
                    <a:ext cx="3049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rot="14686200">
                    <a:off x="-1901520" y="536400"/>
                    <a:ext cx="1638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-1908000" y="193320"/>
                  <a:ext cx="438480" cy="388440"/>
                  <a:chOff x="-1908000" y="193320"/>
                  <a:chExt cx="438480" cy="388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rot="13829400">
                    <a:off x="-1926000" y="291240"/>
                    <a:ext cx="2980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13829400">
                    <a:off x="-1656360" y="400320"/>
                    <a:ext cx="1598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"/>
              <p:cNvSpPr/>
              <p:nvPr/>
            </p:nvSpPr>
            <p:spPr>
              <a:xfrm rot="19585200">
                <a:off x="-1645920" y="90720"/>
                <a:ext cx="240480" cy="306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9585200">
                <a:off x="-2878920" y="205920"/>
                <a:ext cx="210060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 rot="19585200">
                <a:off x="-3182400" y="270000"/>
                <a:ext cx="1492920" cy="84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585200">
                <a:off x="-1915200" y="-113760"/>
                <a:ext cx="915840" cy="95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585200">
                <a:off x="-1995120" y="-195840"/>
                <a:ext cx="141372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585200">
                <a:off x="-2025720" y="-302760"/>
                <a:ext cx="147312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rot="19584600">
                <a:off x="-1896480" y="105840"/>
                <a:ext cx="232200" cy="95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rot="19584600">
                <a:off x="-2228040" y="196200"/>
                <a:ext cx="61560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rot="19584600">
                <a:off x="-2496240" y="210960"/>
                <a:ext cx="87408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rot="19584600">
                <a:off x="-2181240" y="508680"/>
                <a:ext cx="239400" cy="306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21524400">
                <a:off x="-1942560" y="223200"/>
                <a:ext cx="217800" cy="1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585200">
                <a:off x="-2009880" y="-401760"/>
                <a:ext cx="147276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585200">
                <a:off x="-1957680" y="-482760"/>
                <a:ext cx="1238040" cy="95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rot="19584600">
                <a:off x="-2109600" y="95760"/>
                <a:ext cx="522360" cy="95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9585200">
                <a:off x="-1305720" y="-201600"/>
                <a:ext cx="535680" cy="316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585200">
                <a:off x="-1524960" y="-393120"/>
                <a:ext cx="344160" cy="31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585200">
                <a:off x="-1780920" y="-290520"/>
                <a:ext cx="20664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19584600">
                <a:off x="-2903760" y="817560"/>
                <a:ext cx="497880" cy="33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9584600">
                <a:off x="-3043440" y="613800"/>
                <a:ext cx="750240" cy="22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9584600">
                <a:off x="-2788920" y="310320"/>
                <a:ext cx="327960" cy="29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20931600">
                <a:off x="-2316240" y="316800"/>
                <a:ext cx="21960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8238200">
                <a:off x="-1668600" y="-118440"/>
                <a:ext cx="21852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1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2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6542-CFC7-4B76-A783-D44E0D66B28C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3456000"/>
          </a:xfrm>
          <a:prstGeom prst="rect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"/>
          <p:cNvSpPr/>
          <p:nvPr/>
        </p:nvSpPr>
        <p:spPr>
          <a:xfrm>
            <a:off x="3276720" y="6093000"/>
            <a:ext cx="5867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0" y="-28440"/>
            <a:ext cx="1116000" cy="691488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Arial Black"/>
              <a:ea typeface="黑体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8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9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0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1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2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选手名称 参赛内容 分值 所属单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冠军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行易软件</dc:creator>
  <dc:description/>
  <dc:language>en-US</dc:language>
  <cp:lastModifiedBy>行易软件</cp:lastModifiedBy>
  <dcterms:modified xsi:type="dcterms:W3CDTF">2016-12-30T07:15:08Z</dcterms:modified>
  <cp:revision>371</cp:revision>
  <dc:subject/>
  <dc:title>模板</dc:title>
</cp:coreProperties>
</file>