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D6EA-B108-40ED-9F4A-F1E29AD5883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A65-A274-4988-BA09-EDD58CEC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C29-E90E-4097-946A-148673CE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31C6-B216-4034-8D6E-CB26B755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9CF-1367-496C-ACA5-46E01439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F10-AD20-423F-803A-A3D8FD50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D65-3DD2-495A-AD4A-6E454D30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8CB-9AF8-422E-80D0-A78B54AF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290-5058-4A84-BBE2-BF81E7B4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FDC-57A0-4F3E-9A28-F7CE462E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40F-75FC-4C33-B76E-34C73DF0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814-2CFC-4A1C-AC22-0FB719BF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1AD-4543-4DC2-B11F-34FFCF2C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57E0-5EE7-4A8A-9661-74029423D826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4460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13200"/>
            <a:ext cx="914544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828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04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30120" y="95400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04840" y="6904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7640" y="690480"/>
            <a:ext cx="1582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4840" y="146196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6200" y="14605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46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6200" y="224460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30132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6200" y="3013200"/>
            <a:ext cx="15825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4840" y="37828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6200" y="37828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454644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6200" y="45496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04840" y="53244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6200" y="532116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0930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6200" y="60847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0"/>
            <a:ext cx="90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4840" y="0"/>
            <a:ext cx="264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6200" y="0"/>
            <a:ext cx="160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1200" y="6937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 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各项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1463760"/>
            <a:ext cx="3606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51200" y="224784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301608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1200" y="37861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1200" y="45529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51200" y="532440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51200" y="608796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51200" y="0"/>
            <a:ext cx="246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7:36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