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1026-7F59-43EF-ABA5-F7B656199E5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0356-9228-49A5-9CDA-6543078B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9498-8BDF-4C4F-BA61-E48999EB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C29E-8933-49E8-B2CE-47EF4059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1E64-51DF-4688-B7E9-BD70EADC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E574-2FA3-46A2-8DB0-C7592BE4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0FB3-5A39-47FC-8F9B-C7D73526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1681-614C-4F05-B771-EF016F3C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32ED-8CFF-43D2-AFD1-67D53A8B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B20A-716F-401E-B8AD-243F5017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2A9C-7D09-47A7-8F49-59031D8E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FE4E-6FA7-4D2C-94F8-ECF33AEB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7CD6-C2EF-498E-9F4C-C2C47908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C1BC-6883-4E43-987F-4B2BBF056AFE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60" y="6937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81280" y="69048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号 张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46880" y="690480"/>
            <a:ext cx="16318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0" y="14670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1280" y="146196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46880" y="146052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0" y="22399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1280" y="224460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46880" y="224460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0" y="30132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81280" y="3013200"/>
            <a:ext cx="27907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46880" y="3013200"/>
            <a:ext cx="16448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0" y="37861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81280" y="378288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46880" y="378288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0" y="45594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81280" y="454644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46880" y="454968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0" y="53323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81280" y="532440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46880" y="532116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0" y="61056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81280" y="6093000"/>
            <a:ext cx="27907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46880" y="608472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0332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0332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332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332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0332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0332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332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332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0"/>
            <a:ext cx="95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81280" y="0"/>
            <a:ext cx="27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46880" y="0"/>
            <a:ext cx="2041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690480"/>
            <a:ext cx="2681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6680" y="146052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6680" y="224460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6680" y="3013200"/>
            <a:ext cx="2703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6680" y="378288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6680" y="454968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6680" y="532116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6680" y="608472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0"/>
            <a:ext cx="277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6-29T09:08:28Z</dcterms:modified>
  <cp:revision>17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