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F6AD-474B-4060-B1D3-750A5E29C1D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C789-852C-4451-880B-03F9AD14F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B640-61BF-4923-BCB1-DAF378DD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4060-5E3F-41A9-9AE5-F54CD23BA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FFCC-0212-4E44-95CC-3131CCDF1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D718-CC19-4D0A-B216-21DA5027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CB4E-84B8-459E-A2C6-E21BDDE4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2609-B15F-4FD3-ABC6-691572FE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7F2D-E19E-472A-8538-99BBD7ED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35C2-A95E-4553-9492-C62E541E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A3D1-A8AF-4D1D-9133-6BB12F49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4B2B-6C47-4527-97B6-6C417FC7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F4E1-2EBF-41D0-B87F-493F63E0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0577-62D5-4517-9375-D1ECF2DBE950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2016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•决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</cp:lastModifiedBy>
  <dcterms:modified xsi:type="dcterms:W3CDTF">2016-08-23T01:03:44Z</dcterms:modified>
  <cp:revision>20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