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497B-5991-4617-B0F7-1BFECC1B5A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C52F-807D-4BCF-A2F0-7103BFE4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15E-6B51-499A-883F-95E81CC1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50D-1462-4526-BD4E-9D5814D7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A43-9737-4F01-BD4A-A6608F61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B0C2-6CBD-4ACF-8BEA-013FD02A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8D2F-B964-47F0-913D-19A36C4F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23E-0E4D-49F0-82C5-BCFDEF0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627-A149-4DD4-8D84-24FE720A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445-72BC-4E1C-91A6-4D0824A8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55EC-7F8A-45CA-B2CA-0560FED1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D0E0-4496-4E6C-A252-1F1B8A71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1D1-EEBE-43EA-9F18-95DCE898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3722-9E4A-4250-AE63-DDFE5C232082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8560" y="719280"/>
            <a:ext cx="70930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开根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谐网络科技公司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何惠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航天大学计算机系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建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行易软件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评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-720720" y="0"/>
            <a:ext cx="14414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简勇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易艳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黄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大学科技部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监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-324000" y="3860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54Z</dcterms:modified>
  <cp:revision>1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