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90C7-697D-46EA-9A49-5AE5E5FF1A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A73-EE1D-4A27-88D8-D36F1EAE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EB1-F9A3-4CBA-BC81-25B41EF0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A35-56DE-4850-A997-C107FAB8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625-58E7-43EA-9BBE-60A9BD39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2A9-B5EA-4948-B172-A3A6E6EA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2F9-5093-4F84-8C09-4858A13D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3F1-0F2C-45D6-A374-3105F965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776-92DB-42EC-80EC-1ABA4D87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9D47-3809-44A8-94B2-2E625644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FAB-B63C-48AB-BB61-EA81F370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E82-C273-40B8-93FE-A3C5F33F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092-C2E4-4445-A5AD-BCF788D0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58E0-3AB5-46CC-9357-C20D7BD79AA5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采用百分制，选手满分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专家评审团，去掉一个最高分及一个最低分后的剩余评委的平均值，再取重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80%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即满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8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大众评审团打分总分占选手最终实际总分的权重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0%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即满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大众评审团每位成员有三张打分牌：优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、良好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1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、一般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1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计分细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260280"/>
            <a:ext cx="1008000" cy="88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79640" y="620640"/>
            <a:ext cx="67690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每位选手演讲完毕后，大众评审团当场亮分，大会主持分别宣布优秀、良好、一般票数。举牌即为有效分数，不举牌即视为弃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据有效票数，计算大众评审团总分，除以有效票数相应的满分总分，再乘以大众评审团占选手最终实际总分的满分权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，即为该选手大众评审团部分的最终得分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保留小数点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计分细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14Z</dcterms:modified>
  <cp:revision>17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