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CC6C-492F-4DC9-B926-9B1D327189AE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后面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抽签结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抽签结果展示幻灯。里面的文本框及图片框不能删除，但可以随意拖动。此模板要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25-32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内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225F-6798-4F6F-B463-56B2F4912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44A7-7739-49C1-8BDE-8D8627F89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4690-46C6-4780-B51A-C58B9F86B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D931-CEC6-4875-9200-D2A965D1E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6184-29E4-4DA1-9307-90CDCFC21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AD36-0D69-4ACE-B972-D3B8C3BFE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0F1D-CDE1-4CB1-8B7A-411A19F79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56CD-49D7-4269-B283-BC4C76CC5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9A3A-C876-49CC-9BD7-EC4636CB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65EF-FB83-49F3-94DB-3DAA2704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D749-F817-41F5-86EB-F5148417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4088-1A6C-44E3-AF26-3E99EB8C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1945F-9EFA-4D3C-ABA3-2B75FFD8C62E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抽签结果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619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904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330120" y="59832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0760" y="6937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81280" y="690480"/>
            <a:ext cx="3133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86360" y="690480"/>
            <a:ext cx="41450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60" y="14670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81280" y="1461960"/>
            <a:ext cx="3132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65840" y="146052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760" y="22399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81280" y="2244600"/>
            <a:ext cx="3133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65840" y="224460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760" y="30132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81280" y="3013200"/>
            <a:ext cx="3133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965840" y="3013200"/>
            <a:ext cx="41781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760" y="37861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81280" y="3782880"/>
            <a:ext cx="3133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65840" y="378288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760" y="45594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81280" y="4546440"/>
            <a:ext cx="3132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965840" y="454968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760" y="53323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81280" y="5324400"/>
            <a:ext cx="3132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965840" y="532116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60" y="61056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81280" y="6093000"/>
            <a:ext cx="3132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965840" y="608472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03320" y="6904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03320" y="14637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03320" y="224172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03320" y="30099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03320" y="3782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03320" y="4556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3320" y="53290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03320" y="61023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52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出场顺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81280" y="0"/>
            <a:ext cx="2789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15080" y="0"/>
            <a:ext cx="4473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送单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 http://www.ExeSoft.cn</cp:lastModifiedBy>
  <dcterms:modified xsi:type="dcterms:W3CDTF">2013-07-14T09:44:18Z</dcterms:modified>
  <cp:revision>166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