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B396-1B77-4E9A-A8D8-3641A0C8E3F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抽签仪式活动主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及抽签滚动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此幻灯展示选手照片，照片框位于可视界面之内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3527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抽签仪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333360"/>
            <a:ext cx="2016360" cy="29512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132000" y="404640"/>
            <a:ext cx="194472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编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404640"/>
            <a:ext cx="36748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1700280"/>
            <a:ext cx="65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6720" y="2349360"/>
            <a:ext cx="280836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781440" y="4724280"/>
            <a:ext cx="3565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92720"/>
            <a:ext cx="9144000" cy="2421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r>
              <a:rPr b="1" lang="zh-CN" sz="9600" spc="-1" strike="noStrike">
                <a:solidFill>
                  <a:srgbClr val="ffffff"/>
                </a:solidFill>
                <a:latin typeface="Arial Black"/>
                <a:ea typeface="黑体"/>
              </a:rPr>
              <a:t>抽签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56720" y="3789360"/>
            <a:ext cx="4572000" cy="865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1708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3:26:44Z</dcterms:modified>
  <cp:revision>521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