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E650-3D5E-43A5-B53B-262F02656A3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后面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抽签结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抽签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9886-D73B-413D-9337-AC5C8267D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FD7D-2999-4820-90A3-EE8DE938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1C03-F7AC-4DCF-A406-DF476C657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6EA5-4A44-49DF-889A-089E9CAF8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E583-94B0-4359-8A6C-819B9491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B89A-EB39-4733-97BC-C7BD0039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2ABB-4D1C-4C75-A0EB-958B56BE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D419-F041-4310-90FA-D1D083B2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9BA3-6067-4F1D-8493-E9143E03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28D8-6097-40CD-8B44-A1B3D334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90AE-BE8C-468B-AE2E-049D210C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A5D6-9F7B-42AF-865A-418B1FE8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1245-8E0D-427E-8830-21886F6BAE5B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抽签结果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6937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04840" y="69048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48240" y="690480"/>
            <a:ext cx="3527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14670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04840" y="146196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48240" y="146052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22399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04840" y="224460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224460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30132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04840" y="3013200"/>
            <a:ext cx="4343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48240" y="3013200"/>
            <a:ext cx="35384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37861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04840" y="378288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48240" y="378288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45594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04840" y="454644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48240" y="454968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53323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04840" y="532440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48240" y="532116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61056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04840" y="6093000"/>
            <a:ext cx="4343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48240" y="608472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918720" y="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918720" y="7732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918720" y="1550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918720" y="23194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918720" y="30924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18720" y="38656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918720" y="4638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18720" y="54118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9680" y="0"/>
            <a:ext cx="1052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出场顺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04840" y="0"/>
            <a:ext cx="434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0"/>
            <a:ext cx="3527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选送单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/>
  <dc:description/>
  <cp:keywords/>
  <dc:language>en-US</dc:language>
  <cp:lastModifiedBy>行易软件 http://www.ExeSoft.cn</cp:lastModifiedBy>
  <dcterms:modified xsi:type="dcterms:W3CDTF">2013-07-14T09:45:19Z</dcterms:modified>
  <cp:revision>176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