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Blank" id="1">
      <p:sldLst>
        <p:sld r:id="rId6"/>
      </p:sldLst>
    </p:custShow>
    <p:custShow name="ShowPW" id="2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1897-9AB6-4494-A94E-9DDC7D865E3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评委信息展示主题幻灯。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会被打分软件动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评委信息展示幻灯。里面的文本框及图片框不能删除，但可以随意拖动。此模板展示评委照片，所以照片框在可视界面之内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8D24-0559-46F1-9BD1-2978AB115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50FE-40A2-489B-857A-AC094018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3D91-B1FE-43CE-ACAA-48BB1132C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D562-558A-4D62-AB68-AC0117CEF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037B-EBBC-4A74-BF16-87753521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F85D-E45E-44A6-920B-F0D3A5FC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ACC5-933B-44D0-ACEE-9FE46CBF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50DB-E5B9-4D9D-B4A8-5E9DB723D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2E3F-4074-4021-A67D-89CA0A2E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BCF8-59F9-4A11-9008-C0721C52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D0CF-A3FE-4B59-A929-8BCD7BDD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2FB1-2063-4400-9697-407A5D47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1128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1E07-2BBD-4002-83F9-D52DFD9AA022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05000"/>
            <a:ext cx="9144000" cy="23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专家评委信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71640" y="692280"/>
            <a:ext cx="2089080" cy="2663640"/>
          </a:xfrm>
          <a:prstGeom prst="rect">
            <a:avLst/>
          </a:prstGeom>
          <a:solidFill>
            <a:srgbClr val="d29f2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03640" y="692280"/>
            <a:ext cx="496872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评委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71640" y="3716280"/>
            <a:ext cx="720072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评委描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3-06-28T11:16:22Z</dcterms:modified>
  <cp:revision>114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