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1EC4-C616-4E95-8B53-C349A202E0A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般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为题目号码展示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里面的文本框及图片框不能删除，但可以随意拖动。多余的号码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自己后来添加的任何对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只要层号是超越最大的编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允许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越是后来添加的对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默认层编号往往是最大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层号规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选择题号 文本框层号为最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最底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6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字文本框层号依次增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趋向最顶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4271-4381-4DB9-84B4-85DFEC34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B6D5-960F-4CAC-8F5D-CF5FFE8C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7FBF-4965-4918-B578-4A556234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3E58-0357-479F-B100-3BA36BFA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CA9D-0FC8-4700-8C55-E9D9E143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94B4-A20D-474C-8E31-A891DA35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5B6B-B394-4258-B5F4-8862B9B4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E1BB-F824-43D4-9096-3ADB42E6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D471-53D9-4246-AB44-2E9E2299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CFF2-BC2A-44B2-9F68-8454D9CD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0433-70F5-40EC-ACCE-488EE703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D994-EE98-4E17-8BC2-0367C67E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019160" y="2692800"/>
            <a:ext cx="2221200" cy="2623680"/>
            <a:chOff x="10019160" y="2692800"/>
            <a:chExt cx="2221200" cy="2623680"/>
          </a:xfrm>
        </p:grpSpPr>
        <p:grpSp>
          <p:nvGrpSpPr>
            <p:cNvPr id="1" name=""/>
            <p:cNvGrpSpPr/>
            <p:nvPr/>
          </p:nvGrpSpPr>
          <p:grpSpPr>
            <a:xfrm>
              <a:off x="10988640" y="4699800"/>
              <a:ext cx="751680" cy="600480"/>
              <a:chOff x="10988640" y="4699800"/>
              <a:chExt cx="751680" cy="600480"/>
            </a:xfrm>
          </p:grpSpPr>
          <p:sp>
            <p:nvSpPr>
              <p:cNvPr id="2" name=""/>
              <p:cNvSpPr/>
              <p:nvPr/>
            </p:nvSpPr>
            <p:spPr>
              <a:xfrm>
                <a:off x="10988640" y="469980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1258640" y="496224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11161800" y="3858480"/>
              <a:ext cx="751680" cy="600480"/>
              <a:chOff x="11161800" y="3858480"/>
              <a:chExt cx="751680" cy="600480"/>
            </a:xfrm>
          </p:grpSpPr>
          <p:sp>
            <p:nvSpPr>
              <p:cNvPr id="5" name=""/>
              <p:cNvSpPr/>
              <p:nvPr/>
            </p:nvSpPr>
            <p:spPr>
              <a:xfrm>
                <a:off x="11161800" y="385848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1431800" y="412092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0062360" y="2708280"/>
              <a:ext cx="751680" cy="600480"/>
              <a:chOff x="10062360" y="2708280"/>
              <a:chExt cx="751680" cy="600480"/>
            </a:xfrm>
          </p:grpSpPr>
          <p:sp>
            <p:nvSpPr>
              <p:cNvPr id="8" name=""/>
              <p:cNvSpPr/>
              <p:nvPr/>
            </p:nvSpPr>
            <p:spPr>
              <a:xfrm>
                <a:off x="10062360" y="270828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0332360" y="297072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10019160" y="2692800"/>
              <a:ext cx="2221200" cy="2623680"/>
              <a:chOff x="10019160" y="2692800"/>
              <a:chExt cx="2221200" cy="2623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10557720" y="3029040"/>
                <a:ext cx="1121040" cy="879840"/>
                <a:chOff x="10557720" y="3029040"/>
                <a:chExt cx="1121040" cy="879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10557720" y="3029040"/>
                  <a:ext cx="1121040" cy="879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0985760" y="3350880"/>
                  <a:ext cx="2221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10019160" y="2692800"/>
                <a:ext cx="2149560" cy="1804320"/>
                <a:chOff x="10019160" y="2692800"/>
                <a:chExt cx="2149560" cy="180432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11174040" y="3382200"/>
                  <a:ext cx="819000" cy="902160"/>
                  <a:chOff x="11174040" y="3382200"/>
                  <a:chExt cx="819000" cy="9021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11112480" y="3614400"/>
                    <a:ext cx="70452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11603880" y="3989880"/>
                    <a:ext cx="37800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11193840" y="3335400"/>
                  <a:ext cx="953280" cy="818640"/>
                  <a:chOff x="11193840" y="3335400"/>
                  <a:chExt cx="953280" cy="818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11171160" y="3522600"/>
                    <a:ext cx="696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11743200" y="3844080"/>
                    <a:ext cx="37404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11191680" y="3303720"/>
                  <a:ext cx="968040" cy="645480"/>
                  <a:chOff x="11191680" y="3303720"/>
                  <a:chExt cx="968040" cy="64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11184480" y="3445200"/>
                    <a:ext cx="66600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11777400" y="3685320"/>
                    <a:ext cx="35748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11189520" y="3268800"/>
                  <a:ext cx="979200" cy="523440"/>
                  <a:chOff x="11189520" y="3268800"/>
                  <a:chExt cx="979200" cy="5234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11194920" y="3364560"/>
                    <a:ext cx="64368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11798280" y="3528720"/>
                    <a:ext cx="345600" cy="21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11201760" y="3234960"/>
                  <a:ext cx="916920" cy="328680"/>
                  <a:chOff x="11201760" y="3234960"/>
                  <a:chExt cx="916920" cy="32868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11207520" y="3274200"/>
                    <a:ext cx="59292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11787840" y="3342600"/>
                    <a:ext cx="31860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11216880" y="3212280"/>
                  <a:ext cx="827640" cy="146520"/>
                  <a:chOff x="11216880" y="3212280"/>
                  <a:chExt cx="827640" cy="1465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11217600" y="3223440"/>
                    <a:ext cx="538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200" bIns="43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11753280" y="3215880"/>
                    <a:ext cx="28944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11196360" y="3044520"/>
                  <a:ext cx="737280" cy="254520"/>
                  <a:chOff x="11196360" y="3044520"/>
                  <a:chExt cx="737280" cy="25452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11199960" y="3157920"/>
                    <a:ext cx="4734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760" bIns="41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11666880" y="307188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10211400" y="3432240"/>
                  <a:ext cx="818640" cy="902160"/>
                  <a:chOff x="10211400" y="3432240"/>
                  <a:chExt cx="818640" cy="90216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10386360" y="3664440"/>
                    <a:ext cx="7048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10221840" y="4039920"/>
                    <a:ext cx="37800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10040040" y="3407040"/>
                  <a:ext cx="953280" cy="818640"/>
                  <a:chOff x="10040040" y="3407040"/>
                  <a:chExt cx="953280" cy="81864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10319040" y="3594240"/>
                    <a:ext cx="696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10069560" y="3915720"/>
                    <a:ext cx="37404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10028160" y="3376800"/>
                  <a:ext cx="967680" cy="645480"/>
                  <a:chOff x="10028160" y="3376800"/>
                  <a:chExt cx="967680" cy="64548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10336680" y="3518280"/>
                    <a:ext cx="666000" cy="12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10052640" y="3758400"/>
                    <a:ext cx="35748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10019160" y="3341880"/>
                  <a:ext cx="978480" cy="522000"/>
                  <a:chOff x="10019160" y="3341880"/>
                  <a:chExt cx="978480" cy="5220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10348560" y="3438000"/>
                    <a:ext cx="64368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10043280" y="3601080"/>
                    <a:ext cx="34560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10069200" y="3308040"/>
                  <a:ext cx="915840" cy="327600"/>
                  <a:chOff x="10069200" y="3308040"/>
                  <a:chExt cx="915840" cy="32760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10385640" y="3346920"/>
                    <a:ext cx="5929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10080720" y="3415680"/>
                    <a:ext cx="318240" cy="19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10141920" y="3284280"/>
                  <a:ext cx="828360" cy="146880"/>
                  <a:chOff x="10141920" y="3284280"/>
                  <a:chExt cx="828360" cy="1468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10429560" y="3295440"/>
                    <a:ext cx="538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200" bIns="43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10143360" y="3287520"/>
                    <a:ext cx="28944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10253160" y="3116520"/>
                  <a:ext cx="738360" cy="254880"/>
                  <a:chOff x="10253160" y="3116520"/>
                  <a:chExt cx="738360" cy="254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10514160" y="3229920"/>
                    <a:ext cx="47340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10265040" y="314388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10292040" y="3022200"/>
                  <a:ext cx="726120" cy="351360"/>
                  <a:chOff x="10292040" y="3022200"/>
                  <a:chExt cx="726120" cy="35136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10544760" y="3202560"/>
                    <a:ext cx="473040" cy="8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480" bIns="42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10307880" y="3063240"/>
                    <a:ext cx="253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10375920" y="2890080"/>
                  <a:ext cx="680040" cy="486360"/>
                  <a:chOff x="10375920" y="2890080"/>
                  <a:chExt cx="680040" cy="48636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10597320" y="3164400"/>
                    <a:ext cx="47340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10392480" y="294912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10462320" y="2760120"/>
                  <a:ext cx="622440" cy="589680"/>
                  <a:chOff x="10462320" y="2760120"/>
                  <a:chExt cx="622440" cy="58968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10642680" y="3106800"/>
                    <a:ext cx="4802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10473480" y="2830680"/>
                    <a:ext cx="25812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10644480" y="2723040"/>
                  <a:ext cx="466200" cy="621360"/>
                  <a:chOff x="10644480" y="2723040"/>
                  <a:chExt cx="466200" cy="621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10731240" y="3090600"/>
                    <a:ext cx="449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10642680" y="2794680"/>
                    <a:ext cx="241560" cy="12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10777680" y="2692800"/>
                  <a:ext cx="355680" cy="641160"/>
                  <a:chOff x="10777680" y="2692800"/>
                  <a:chExt cx="355680" cy="641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10800360" y="3076200"/>
                    <a:ext cx="4327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10763280" y="2759760"/>
                    <a:ext cx="23256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11156760" y="2928240"/>
                  <a:ext cx="723960" cy="359640"/>
                  <a:chOff x="11156760" y="2928240"/>
                  <a:chExt cx="723960" cy="3596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11155680" y="3114000"/>
                    <a:ext cx="47304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11610000" y="2970720"/>
                    <a:ext cx="2538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11114640" y="2821320"/>
                  <a:ext cx="689040" cy="469080"/>
                  <a:chOff x="11114640" y="2821320"/>
                  <a:chExt cx="689040" cy="4690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11101680" y="3083400"/>
                    <a:ext cx="47376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11531880" y="2877840"/>
                    <a:ext cx="2541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10865880" y="3097440"/>
                  <a:ext cx="420120" cy="554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10880280" y="2790720"/>
                  <a:ext cx="225000" cy="878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11056680" y="2700360"/>
                  <a:ext cx="381240" cy="628200"/>
                  <a:chOff x="11056680" y="2700360"/>
                  <a:chExt cx="381240" cy="6282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10965240" y="3082320"/>
                    <a:ext cx="43416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4840" bIns="248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11220840" y="2773800"/>
                    <a:ext cx="2329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11050560" y="2742480"/>
                  <a:ext cx="603360" cy="588960"/>
                  <a:chOff x="11050560" y="2742480"/>
                  <a:chExt cx="603360" cy="5889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11014920" y="3073320"/>
                    <a:ext cx="47196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11380680" y="2809080"/>
                    <a:ext cx="25344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11093040" y="2707560"/>
                  <a:ext cx="135360" cy="594000"/>
                  <a:chOff x="11093040" y="2707560"/>
                  <a:chExt cx="135360" cy="59400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10942200" y="3089880"/>
                    <a:ext cx="3895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2960" bIns="-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11083320" y="2788560"/>
                    <a:ext cx="2088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10341360" y="3451320"/>
                  <a:ext cx="702720" cy="988920"/>
                  <a:chOff x="10341360" y="3451320"/>
                  <a:chExt cx="702720" cy="98892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10437840" y="3712320"/>
                    <a:ext cx="70416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10338480" y="4138200"/>
                    <a:ext cx="37764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10571400" y="3489840"/>
                  <a:ext cx="472680" cy="990360"/>
                  <a:chOff x="10571400" y="3489840"/>
                  <a:chExt cx="472680" cy="99036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10538280" y="3754080"/>
                    <a:ext cx="65196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10549800" y="4188960"/>
                    <a:ext cx="34956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10796040" y="3506400"/>
                  <a:ext cx="277920" cy="968400"/>
                  <a:chOff x="10796040" y="3506400"/>
                  <a:chExt cx="277920" cy="9684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10648080" y="3769560"/>
                    <a:ext cx="62532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10743480" y="4209120"/>
                    <a:ext cx="33552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11149200" y="3435120"/>
                  <a:ext cx="730440" cy="973080"/>
                  <a:chOff x="11149200" y="3435120"/>
                  <a:chExt cx="730440" cy="97308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11059200" y="3690720"/>
                    <a:ext cx="70452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11500560" y="4106880"/>
                    <a:ext cx="378000" cy="18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11143440" y="3471480"/>
                  <a:ext cx="562320" cy="1000800"/>
                  <a:chOff x="11143440" y="3471480"/>
                  <a:chExt cx="562320" cy="1000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11013120" y="3739320"/>
                    <a:ext cx="6742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11361240" y="4179600"/>
                    <a:ext cx="36180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11125080" y="3510000"/>
                  <a:ext cx="391320" cy="987120"/>
                  <a:chOff x="11125080" y="3510000"/>
                  <a:chExt cx="391320" cy="9871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10946520" y="3787560"/>
                    <a:ext cx="6541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11214720" y="4232880"/>
                    <a:ext cx="35100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11111040" y="3552120"/>
                  <a:ext cx="221400" cy="919800"/>
                  <a:chOff x="11111040" y="3552120"/>
                  <a:chExt cx="221400" cy="919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10900440" y="3809160"/>
                    <a:ext cx="60156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11073960" y="4227120"/>
                    <a:ext cx="3229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10938240" y="3567240"/>
                  <a:ext cx="209880" cy="900720"/>
                  <a:chOff x="10938240" y="3567240"/>
                  <a:chExt cx="209880" cy="90072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10788120" y="3827160"/>
                    <a:ext cx="5875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10852920" y="4248720"/>
                    <a:ext cx="31536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10785240" y="3682080"/>
                <a:ext cx="186840" cy="604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10447560" y="3434400"/>
                <a:ext cx="1630440" cy="1882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11081520" y="2894040"/>
                <a:ext cx="1158840" cy="167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10529640" y="3313080"/>
                <a:ext cx="7110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10192680" y="3362760"/>
                <a:ext cx="1097280" cy="188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10124280" y="3185640"/>
                <a:ext cx="114336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099520" y="3322080"/>
                <a:ext cx="18036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080080" y="3318120"/>
                <a:ext cx="47808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075040" y="3191040"/>
                <a:ext cx="6786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311920" y="3785040"/>
                <a:ext cx="185760" cy="604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11021760" y="3586680"/>
                <a:ext cx="168840" cy="34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10071360" y="3040920"/>
                <a:ext cx="11430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10170000" y="2836080"/>
                <a:ext cx="960840" cy="188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026440" y="3231720"/>
                <a:ext cx="405360" cy="188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0231200" y="3731760"/>
                <a:ext cx="415800" cy="622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10427760" y="3072960"/>
                <a:ext cx="267120" cy="62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10734480" y="2887200"/>
                <a:ext cx="160200" cy="622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1733480" y="3640320"/>
                <a:ext cx="386640" cy="65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1532960" y="3308760"/>
                <a:ext cx="58248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1554560" y="2845800"/>
                <a:ext cx="254520" cy="585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11302920" y="3332160"/>
                <a:ext cx="170280" cy="343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10697400" y="3323520"/>
                <a:ext cx="168840" cy="342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C0AB-9C33-43B1-A75B-73F0E80C5310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-1883520" y="2350080"/>
            <a:ext cx="2180880" cy="2148120"/>
            <a:chOff x="-1883520" y="2350080"/>
            <a:chExt cx="2180880" cy="2148120"/>
          </a:xfrm>
        </p:grpSpPr>
        <p:grpSp>
          <p:nvGrpSpPr>
            <p:cNvPr id="139" name=""/>
            <p:cNvGrpSpPr/>
            <p:nvPr/>
          </p:nvGrpSpPr>
          <p:grpSpPr>
            <a:xfrm>
              <a:off x="-599760" y="3595320"/>
              <a:ext cx="681120" cy="635400"/>
              <a:chOff x="-599760" y="3595320"/>
              <a:chExt cx="681120" cy="635400"/>
            </a:xfrm>
          </p:grpSpPr>
          <p:sp>
            <p:nvSpPr>
              <p:cNvPr id="140" name=""/>
              <p:cNvSpPr/>
              <p:nvPr/>
            </p:nvSpPr>
            <p:spPr>
              <a:xfrm rot="19726200">
                <a:off x="-532800" y="370764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9726200">
                <a:off x="-327960" y="389088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-790920" y="3037680"/>
              <a:ext cx="681120" cy="635400"/>
              <a:chOff x="-790920" y="3037680"/>
              <a:chExt cx="681120" cy="635400"/>
            </a:xfrm>
          </p:grpSpPr>
          <p:sp>
            <p:nvSpPr>
              <p:cNvPr id="143" name=""/>
              <p:cNvSpPr/>
              <p:nvPr/>
            </p:nvSpPr>
            <p:spPr>
              <a:xfrm rot="19726200">
                <a:off x="-723960" y="315000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9726200">
                <a:off x="-518760" y="333324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-1883520" y="2780280"/>
              <a:ext cx="681120" cy="635400"/>
              <a:chOff x="-1883520" y="2780280"/>
              <a:chExt cx="681120" cy="635400"/>
            </a:xfrm>
          </p:grpSpPr>
          <p:sp>
            <p:nvSpPr>
              <p:cNvPr id="146" name=""/>
              <p:cNvSpPr/>
              <p:nvPr/>
            </p:nvSpPr>
            <p:spPr>
              <a:xfrm rot="19726200">
                <a:off x="-1816560" y="289260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9726200">
                <a:off x="-1611720" y="307584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-1770840" y="2350080"/>
              <a:ext cx="2068200" cy="2148120"/>
              <a:chOff x="-1770840" y="2350080"/>
              <a:chExt cx="2068200" cy="214812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-1460880" y="2641680"/>
                <a:ext cx="1010520" cy="938160"/>
                <a:chOff x="-1460880" y="2641680"/>
                <a:chExt cx="1010520" cy="938160"/>
              </a:xfrm>
            </p:grpSpPr>
            <p:sp>
              <p:nvSpPr>
                <p:cNvPr id="150" name=""/>
                <p:cNvSpPr/>
                <p:nvPr/>
              </p:nvSpPr>
              <p:spPr>
                <a:xfrm rot="19726200">
                  <a:off x="-1363680" y="2809440"/>
                  <a:ext cx="816840" cy="60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rot="19726200">
                  <a:off x="-1061640" y="3040560"/>
                  <a:ext cx="16200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-1627200" y="2496600"/>
                <a:ext cx="1490760" cy="1421280"/>
                <a:chOff x="-1627200" y="2496600"/>
                <a:chExt cx="1490760" cy="142128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-911160" y="2998800"/>
                  <a:ext cx="736560" cy="313920"/>
                  <a:chOff x="-911160" y="2998800"/>
                  <a:chExt cx="736560" cy="31392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rot="837600">
                    <a:off x="-907560" y="3055320"/>
                    <a:ext cx="48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rot="837600">
                    <a:off x="-445680" y="314640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-918000" y="2966040"/>
                  <a:ext cx="781560" cy="207000"/>
                  <a:chOff x="-918000" y="2966040"/>
                  <a:chExt cx="781560" cy="20700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rot="229800">
                    <a:off x="-915120" y="2982600"/>
                    <a:ext cx="5076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229800">
                    <a:off x="-413280" y="3011400"/>
                    <a:ext cx="2725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-938520" y="2900160"/>
                  <a:ext cx="750960" cy="154440"/>
                  <a:chOff x="-938520" y="2900160"/>
                  <a:chExt cx="750960" cy="15444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rot="21309000">
                    <a:off x="-935640" y="2939400"/>
                    <a:ext cx="485280" cy="8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240" bIns="39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21309000">
                    <a:off x="-452880" y="2910600"/>
                    <a:ext cx="260280" cy="13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-959040" y="2786040"/>
                  <a:ext cx="733680" cy="252000"/>
                  <a:chOff x="-959040" y="2786040"/>
                  <a:chExt cx="733680" cy="2520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rot="20806200">
                    <a:off x="-954360" y="2891880"/>
                    <a:ext cx="4690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20806200">
                    <a:off x="-490680" y="2812680"/>
                    <a:ext cx="25200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-977040" y="2672280"/>
                  <a:ext cx="662400" cy="341640"/>
                  <a:chOff x="-977040" y="2672280"/>
                  <a:chExt cx="662400" cy="34164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rot="20190000">
                    <a:off x="-977400" y="2843640"/>
                    <a:ext cx="4320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760" bIns="41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20190000">
                    <a:off x="-564120" y="2712600"/>
                    <a:ext cx="23220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-978840" y="2611080"/>
                  <a:ext cx="558720" cy="373680"/>
                  <a:chOff x="-978840" y="2611080"/>
                  <a:chExt cx="558720" cy="37368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19641600">
                    <a:off x="-993240" y="2822760"/>
                    <a:ext cx="3927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19641600">
                    <a:off x="-639720" y="2660400"/>
                    <a:ext cx="210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-995760" y="2564280"/>
                  <a:ext cx="443880" cy="411840"/>
                  <a:chOff x="-995760" y="2564280"/>
                  <a:chExt cx="443880" cy="41184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rot="18923400">
                    <a:off x="-1024200" y="2803680"/>
                    <a:ext cx="344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rot="18923400">
                    <a:off x="-743040" y="2615400"/>
                    <a:ext cx="185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-1257480" y="3157920"/>
                  <a:ext cx="255600" cy="749880"/>
                  <a:chOff x="-1257480" y="3157920"/>
                  <a:chExt cx="255600" cy="74988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17014800">
                    <a:off x="-1342080" y="3359160"/>
                    <a:ext cx="48240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040" bIns="41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17014800">
                    <a:off x="-1289880" y="369756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-1419120" y="3143520"/>
                  <a:ext cx="398160" cy="774360"/>
                  <a:chOff x="-1419120" y="3143520"/>
                  <a:chExt cx="398160" cy="77436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rot="17622000">
                    <a:off x="-1421280" y="3346920"/>
                    <a:ext cx="5076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rot="17622000">
                    <a:off x="-1430280" y="3686400"/>
                    <a:ext cx="2725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-1497960" y="3116520"/>
                  <a:ext cx="468720" cy="700920"/>
                  <a:chOff x="-1497960" y="3116520"/>
                  <a:chExt cx="468720" cy="7009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flipH="1" rot="18143400">
                    <a:off x="-1438560" y="3301560"/>
                    <a:ext cx="4856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600" bIns="39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H="1" rot="18143400">
                    <a:off x="-1502640" y="3605400"/>
                    <a:ext cx="260640" cy="13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-1570320" y="3093480"/>
                  <a:ext cx="537480" cy="641160"/>
                  <a:chOff x="-1570320" y="3093480"/>
                  <a:chExt cx="537480" cy="6411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flipH="1" rot="18646200">
                    <a:off x="-1455840" y="3254760"/>
                    <a:ext cx="4690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 rot="18646200">
                    <a:off x="-1558080" y="3517920"/>
                    <a:ext cx="25200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-1620000" y="3070800"/>
                  <a:ext cx="568080" cy="524160"/>
                  <a:chOff x="-1620000" y="3070800"/>
                  <a:chExt cx="568080" cy="52416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flipH="1" rot="19262400">
                    <a:off x="-1463400" y="3196800"/>
                    <a:ext cx="43200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rot="19262400">
                    <a:off x="-1603080" y="3400920"/>
                    <a:ext cx="231840" cy="13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-1627200" y="3068280"/>
                  <a:ext cx="550800" cy="384120"/>
                  <a:chOff x="-1627200" y="3068280"/>
                  <a:chExt cx="550800" cy="38412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flipH="1" rot="19810800">
                    <a:off x="-1458720" y="3161880"/>
                    <a:ext cx="3927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rot="19810800">
                    <a:off x="-1617840" y="3310560"/>
                    <a:ext cx="210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-1601280" y="3053520"/>
                  <a:ext cx="520920" cy="254160"/>
                  <a:chOff x="-1601280" y="3053520"/>
                  <a:chExt cx="520920" cy="25416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flipH="1" rot="20529000">
                    <a:off x="-1426320" y="3104640"/>
                    <a:ext cx="3448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760" bIns="14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20529000">
                    <a:off x="-1590840" y="3187080"/>
                    <a:ext cx="18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-1599840" y="3047760"/>
                  <a:ext cx="530640" cy="186120"/>
                  <a:chOff x="-1599840" y="3047760"/>
                  <a:chExt cx="530640" cy="1861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flipH="1" rot="21004200">
                    <a:off x="-1416600" y="3076920"/>
                    <a:ext cx="3445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 rot="21004200">
                    <a:off x="-1592640" y="3123720"/>
                    <a:ext cx="18504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-1583280" y="3021120"/>
                  <a:ext cx="531720" cy="102240"/>
                  <a:chOff x="-1583280" y="3021120"/>
                  <a:chExt cx="531720" cy="10224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flipH="1" rot="154800">
                    <a:off x="-1397160" y="3034800"/>
                    <a:ext cx="344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rot="154800">
                    <a:off x="-1581480" y="3025080"/>
                    <a:ext cx="185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-1581120" y="2904840"/>
                  <a:ext cx="542880" cy="177480"/>
                  <a:chOff x="-1581120" y="2904840"/>
                  <a:chExt cx="542880" cy="17748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flipH="1" rot="790200">
                    <a:off x="-1389960" y="2983680"/>
                    <a:ext cx="3499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rot="790200">
                    <a:off x="-1572840" y="2925000"/>
                    <a:ext cx="18792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-1487880" y="2808720"/>
                  <a:ext cx="463320" cy="261720"/>
                  <a:chOff x="-1487880" y="2808720"/>
                  <a:chExt cx="463320" cy="26172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flipH="1" rot="1600200">
                    <a:off x="-1329840" y="2944440"/>
                    <a:ext cx="30780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 rot="1600200">
                    <a:off x="-1475280" y="2840760"/>
                    <a:ext cx="1652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-1424520" y="2737800"/>
                  <a:ext cx="416880" cy="319320"/>
                  <a:chOff x="-1424520" y="2737800"/>
                  <a:chExt cx="416880" cy="31932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flipH="1" rot="2252400">
                    <a:off x="-1291320" y="2913480"/>
                    <a:ext cx="2962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H="1" rot="2252400">
                    <a:off x="-1411920" y="2776320"/>
                    <a:ext cx="1591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-1022040" y="2522880"/>
                  <a:ext cx="392760" cy="457920"/>
                  <a:chOff x="-1022040" y="2522880"/>
                  <a:chExt cx="392760" cy="45792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rot="18400200">
                    <a:off x="-1067040" y="2794320"/>
                    <a:ext cx="3445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18400200">
                    <a:off x="-814680" y="2577960"/>
                    <a:ext cx="18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-1043640" y="2496600"/>
                  <a:ext cx="324720" cy="498240"/>
                  <a:chOff x="-1043640" y="2496600"/>
                  <a:chExt cx="324720" cy="4982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rot="17805000">
                    <a:off x="-1111680" y="2796840"/>
                    <a:ext cx="34524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rot="17805000">
                    <a:off x="-895680" y="2553120"/>
                    <a:ext cx="1854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 flipH="1" rot="2704800">
                  <a:off x="-1247040" y="2905200"/>
                  <a:ext cx="287280" cy="403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2704800">
                  <a:off x="-1334880" y="2754000"/>
                  <a:ext cx="153720" cy="6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"/>
                <p:cNvGrpSpPr/>
                <p:nvPr/>
              </p:nvGrpSpPr>
              <p:grpSpPr>
                <a:xfrm>
                  <a:off x="-1093680" y="2570040"/>
                  <a:ext cx="95760" cy="460080"/>
                  <a:chOff x="-1093680" y="2570040"/>
                  <a:chExt cx="95760" cy="4600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rot="15868200">
                    <a:off x="-1188720" y="2854080"/>
                    <a:ext cx="2970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5760" bIns="5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rot="15868200">
                    <a:off x="-1125000" y="2612880"/>
                    <a:ext cx="15912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-1065960" y="2526840"/>
                  <a:ext cx="224280" cy="498600"/>
                  <a:chOff x="-1065960" y="2526840"/>
                  <a:chExt cx="224280" cy="49860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rot="16948800">
                    <a:off x="-1155600" y="2822040"/>
                    <a:ext cx="32292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9520" bIns="29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rot="16948800">
                    <a:off x="-1004400" y="2565000"/>
                    <a:ext cx="17316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-1189440" y="2628000"/>
                  <a:ext cx="179640" cy="390600"/>
                  <a:chOff x="-1189440" y="2628000"/>
                  <a:chExt cx="179640" cy="3906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rot="14822400">
                    <a:off x="-1205640" y="2879280"/>
                    <a:ext cx="2664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14822400">
                    <a:off x="-1215720" y="2682000"/>
                    <a:ext cx="1429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-1131120" y="3168360"/>
                  <a:ext cx="156240" cy="745560"/>
                  <a:chOff x="-1131120" y="3168360"/>
                  <a:chExt cx="156240" cy="74556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H="1" rot="16462200">
                    <a:off x="-1293120" y="3368160"/>
                    <a:ext cx="48168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16462200">
                    <a:off x="-1182240" y="371124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-1067760" y="3180600"/>
                  <a:ext cx="241920" cy="682920"/>
                  <a:chOff x="-1067760" y="3180600"/>
                  <a:chExt cx="241920" cy="68292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rot="15669000">
                    <a:off x="-1213920" y="3363840"/>
                    <a:ext cx="446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15669000">
                    <a:off x="-1031760" y="3666240"/>
                    <a:ext cx="23940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-1038240" y="3161880"/>
                  <a:ext cx="343800" cy="637920"/>
                  <a:chOff x="-1038240" y="3161880"/>
                  <a:chExt cx="343800" cy="63792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flipH="1" rot="14997000">
                    <a:off x="-1141920" y="3337200"/>
                    <a:ext cx="42804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14997000">
                    <a:off x="-906840" y="3609000"/>
                    <a:ext cx="22968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-913680" y="3035880"/>
                  <a:ext cx="719280" cy="397440"/>
                  <a:chOff x="-913680" y="3035880"/>
                  <a:chExt cx="719280" cy="39744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rot="1270200">
                    <a:off x="-914040" y="3119760"/>
                    <a:ext cx="48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rot="1270200">
                    <a:off x="-469080" y="3253680"/>
                    <a:ext cx="25848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-913680" y="3058920"/>
                  <a:ext cx="646560" cy="479880"/>
                  <a:chOff x="-913680" y="3058920"/>
                  <a:chExt cx="646560" cy="47988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rot="1871400">
                    <a:off x="-925200" y="3171960"/>
                    <a:ext cx="46116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rot="1871400">
                    <a:off x="-530640" y="3352680"/>
                    <a:ext cx="24732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-922680" y="3094560"/>
                  <a:ext cx="560160" cy="521640"/>
                  <a:chOff x="-922680" y="3094560"/>
                  <a:chExt cx="560160" cy="52164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rot="2412600">
                    <a:off x="-953280" y="3230640"/>
                    <a:ext cx="4474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rot="2412600">
                    <a:off x="-608760" y="3443040"/>
                    <a:ext cx="24012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-924120" y="3124800"/>
                  <a:ext cx="448920" cy="547560"/>
                  <a:chOff x="-924120" y="3124800"/>
                  <a:chExt cx="448920" cy="54756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rot="3024600">
                    <a:off x="-972000" y="3270600"/>
                    <a:ext cx="4114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rot="3024600">
                    <a:off x="-697320" y="3498840"/>
                    <a:ext cx="2210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-948240" y="3161160"/>
                  <a:ext cx="304920" cy="593640"/>
                  <a:chOff x="-948240" y="3161160"/>
                  <a:chExt cx="304920" cy="593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rot="3881400">
                    <a:off x="-1039320" y="3327840"/>
                    <a:ext cx="40212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rot="3881400">
                    <a:off x="-834120" y="3598560"/>
                    <a:ext cx="215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1" name=""/>
              <p:cNvSpPr/>
              <p:nvPr/>
            </p:nvSpPr>
            <p:spPr>
              <a:xfrm flipH="1" rot="19726200">
                <a:off x="-990000" y="3294720"/>
                <a:ext cx="136080" cy="41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rot="19726200">
                <a:off x="-1138320" y="2942640"/>
                <a:ext cx="1187640" cy="128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 rot="19726200">
                <a:off x="-946800" y="2485800"/>
                <a:ext cx="843840" cy="114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19726200">
                <a:off x="-1081080" y="3013200"/>
                <a:ext cx="517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19726200">
                <a:off x="-1294560" y="3097440"/>
                <a:ext cx="799200" cy="1286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19726200">
                <a:off x="-1402920" y="3011040"/>
                <a:ext cx="832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19726200">
                <a:off x="-694800" y="2904120"/>
                <a:ext cx="131400" cy="128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9726200">
                <a:off x="-724320" y="2853000"/>
                <a:ext cx="34776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9726200">
                <a:off x="-783000" y="2742480"/>
                <a:ext cx="49392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9726200">
                <a:off x="-625680" y="3156840"/>
                <a:ext cx="135360" cy="41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 rot="17787000">
                <a:off x="-921960" y="3166560"/>
                <a:ext cx="123120" cy="234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rot="19726200">
                <a:off x="-1486440" y="2945880"/>
                <a:ext cx="832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rot="19726200">
                <a:off x="-1487880" y="2823120"/>
                <a:ext cx="699840" cy="12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26200">
                <a:off x="-784440" y="2835720"/>
                <a:ext cx="295200" cy="128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19726200">
                <a:off x="-1326600" y="3489120"/>
                <a:ext cx="303120" cy="425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rot="19726200">
                <a:off x="-1430280" y="3058200"/>
                <a:ext cx="19440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19726200">
                <a:off x="-1298880" y="2853360"/>
                <a:ext cx="116640" cy="425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726200">
                <a:off x="-416160" y="2872800"/>
                <a:ext cx="281520" cy="447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726200">
                <a:off x="-707760" y="2728440"/>
                <a:ext cx="424440" cy="298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726200">
                <a:off x="-814320" y="2503440"/>
                <a:ext cx="185400" cy="400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8379200">
                <a:off x="-837000" y="2911320"/>
                <a:ext cx="123840" cy="234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rot="21073200">
                <a:off x="-1217520" y="3135240"/>
                <a:ext cx="123120" cy="234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54720" y="54720"/>
            <a:ext cx="903456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请 选 择 题 号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-3636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"/>
          <p:cNvSpPr/>
          <p:nvPr/>
        </p:nvSpPr>
        <p:spPr>
          <a:xfrm>
            <a:off x="66348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362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0606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760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59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576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57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56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2546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54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1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532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5200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3636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6348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362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0606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760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59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1576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57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1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56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2546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54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6532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35200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-3636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348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62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0606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760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59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1576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57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56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2546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954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6532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35200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-3636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6348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362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606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760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59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1576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57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556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2546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954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5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6532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5200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-3636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348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362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606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60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459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1576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857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556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546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54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532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35200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-3636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6348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62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0606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760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59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1576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57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556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2546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54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532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35200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627280" y="7174080"/>
            <a:ext cx="1727280" cy="431640"/>
          </a:xfrm>
          <a:prstGeom prst="rect">
            <a:avLst/>
          </a:prstGeom>
          <a:gradFill rotWithShape="0">
            <a:gsLst>
              <a:gs pos="0">
                <a:srgbClr val="fe1f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219640" y="7174080"/>
            <a:ext cx="1727280" cy="431640"/>
          </a:xfrm>
          <a:prstGeom prst="rect">
            <a:avLst/>
          </a:prstGeom>
          <a:gradFill rotWithShape="0">
            <a:gsLst>
              <a:gs pos="0">
                <a:srgbClr val="fe1f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8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2:09:34Z</dcterms:created>
  <dc:creator>ccss</dc:creator>
  <dc:description/>
  <dc:language>en-US</dc:language>
  <cp:lastModifiedBy>行易软件</cp:lastModifiedBy>
  <dcterms:modified xsi:type="dcterms:W3CDTF">2017-02-19T02:05:45Z</dcterms:modified>
  <cp:revision>305</cp:revision>
  <dc:subject/>
  <dc:title>幻灯片 1</dc:title>
</cp:coreProperties>
</file>