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4B6A-98BE-4479-918D-DC1E9CB170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0CD-0DB9-4772-A158-62F6EA02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DCBE-2799-4E1C-AAB7-5E8E9B95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B90-4726-47D9-8A6D-5C9DDD67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B5F-A318-4548-B98D-28F4FA39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C439-E61A-4AA5-A614-5C57652C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A95-E428-4F77-ADCB-1E61A550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B99-404B-4673-BB5C-C6ED25E8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6292-AA6F-43FA-A497-40FD9173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DFB-E550-4618-AABF-4A59939E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41B-64BA-4809-B9C5-4A2E1A0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1C7-7594-4B61-BB13-70B4E992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1E3-91D0-4CFE-9C89-B0BA0A1A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BCDE-98CA-4F73-8647-8F462B8964F8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-74772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3280" y="-747720"/>
            <a:ext cx="172692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 http://www.ExeSoft.cn</cp:lastModifiedBy>
  <dcterms:modified xsi:type="dcterms:W3CDTF">2017-02-17T15:55:42Z</dcterms:modified>
  <cp:revision>303</cp:revision>
  <dc:subject/>
  <dc:title>幻灯片 1</dc:title>
</cp:coreProperties>
</file>