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3EFD-F4CF-4B7B-9C70-7BE3E77A7FC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6364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24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44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44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276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276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744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744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06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06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357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357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3896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3896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9164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164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7308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77308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85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85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933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933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97492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9749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5520" y="-2187720"/>
            <a:ext cx="115092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34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332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356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18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4168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136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160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1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152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4908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10080"/>
            <a:ext cx="91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34080"/>
            <a:ext cx="5867280" cy="719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4360" y="7966080"/>
            <a:ext cx="31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0" y="-420372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1636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685800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59Z</dcterms:modified>
  <cp:revision>66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