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DBAF-AB9D-4B07-A216-4E6E3ADF93C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722A-CE98-449A-B0E6-E132ACFA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0DA9-4B5C-42EF-B545-2CF018E0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462C-9C1A-4AE4-9684-1CD6653E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D4E3-63DB-4B90-8492-E05F7B134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00FF-1404-4500-8D91-54B70D0B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E5FC-D7AC-4920-BB12-87A7254C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6E96-6B1D-4C08-98C9-E6D3C4C9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0CFF-5381-4B0A-A06C-7F93EA88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794A-BAAC-4914-80CB-402DB9CE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0F16-ADE6-4639-8082-3850F0FB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C36D-C896-48FF-811C-644A68DB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2DF6-5B8C-4628-ABD1-680FEB03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0EE7-26D5-4B19-A1F9-DF27CFA022DA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937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78200" y="69048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24640" y="690480"/>
            <a:ext cx="17067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670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78200" y="146196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2320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2399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8200" y="224460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23200" y="2244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0132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8200" y="3013200"/>
            <a:ext cx="53654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23200" y="30132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7861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78200" y="378288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23200" y="3782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5594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78200" y="454644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23200" y="45496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3323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78200" y="532440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2320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1056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78200" y="6093000"/>
            <a:ext cx="53654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2320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0484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0484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0484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0484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0484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0484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0484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0484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1052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0"/>
            <a:ext cx="53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24640" y="0"/>
            <a:ext cx="1706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9:54:29Z</dcterms:modified>
  <cp:revision>162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