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76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135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83052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新商业文明的四个准则分别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透明、责任、激情、分享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开放、透明、信任、分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诚信、激情、开放、透明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开放、透明、分享、责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7347000">
            <a:off x="10342440" y="69840"/>
            <a:ext cx="533520" cy="8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45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62120"/>
            <a:ext cx="861084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新商业文明的四个准则分别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透明、责任、激情、分享           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开放、透明、信任、分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诚信、激情、开放、透明              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D.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开放、透明、分享、责任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158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单选题 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 rot="7347000">
            <a:off x="7522200" y="3575520"/>
            <a:ext cx="533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 rot="10710000">
            <a:off x="9622440" y="3105720"/>
            <a:ext cx="685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0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  <p:sp>
        <p:nvSpPr>
          <p:cNvPr id="52" name=""/>
          <p:cNvSpPr/>
          <p:nvPr/>
        </p:nvSpPr>
        <p:spPr>
          <a:xfrm>
            <a:off x="9448920" y="1905120"/>
            <a:ext cx="1143000" cy="53316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10694400">
            <a:off x="9627120" y="4471920"/>
            <a:ext cx="7621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x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"/>
          <p:cNvSpPr/>
          <p:nvPr/>
        </p:nvSpPr>
        <p:spPr>
          <a:xfrm>
            <a:off x="9524880" y="5791320"/>
            <a:ext cx="13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答案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7-14T12:18:37Z</dcterms:modified>
  <cp:revision>1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