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476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29600" y="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696080" y="0"/>
            <a:ext cx="83052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762120"/>
            <a:ext cx="861084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尚未创建淘宝店铺的是否可以在淘宝发布全新商品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A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可以，且没数量限制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B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可以，但只能发布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件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C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不可以      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D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可以，但只能发布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100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21589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单选题 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7347000">
            <a:off x="10342440" y="69840"/>
            <a:ext cx="533520" cy="8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 rot="10710000">
            <a:off x="9622440" y="3105720"/>
            <a:ext cx="685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0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  <p:sp>
        <p:nvSpPr>
          <p:cNvPr id="45" name=""/>
          <p:cNvSpPr/>
          <p:nvPr/>
        </p:nvSpPr>
        <p:spPr>
          <a:xfrm>
            <a:off x="9448920" y="1905120"/>
            <a:ext cx="1143000" cy="53316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 rot="10694400">
            <a:off x="9627120" y="4471920"/>
            <a:ext cx="7621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x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7" name=""/>
          <p:cNvSpPr/>
          <p:nvPr/>
        </p:nvSpPr>
        <p:spPr>
          <a:xfrm>
            <a:off x="9524880" y="5791320"/>
            <a:ext cx="13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答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762120"/>
            <a:ext cx="861084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尚未创建淘宝店铺的是否可以在淘宝发布全新商品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A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可以，且没数量限制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B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可以，但只能发布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件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C.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不可以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D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可以，但只能发布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100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1589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单选题 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 rot="7347000">
            <a:off x="3255840" y="3498840"/>
            <a:ext cx="533520" cy="8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 rot="10710000">
            <a:off x="9622440" y="3105720"/>
            <a:ext cx="685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0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  <p:sp>
        <p:nvSpPr>
          <p:cNvPr id="52" name=""/>
          <p:cNvSpPr/>
          <p:nvPr/>
        </p:nvSpPr>
        <p:spPr>
          <a:xfrm>
            <a:off x="9448920" y="1905120"/>
            <a:ext cx="1143000" cy="53316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 rot="10694400">
            <a:off x="9627120" y="4471920"/>
            <a:ext cx="7621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x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4" name=""/>
          <p:cNvSpPr/>
          <p:nvPr/>
        </p:nvSpPr>
        <p:spPr>
          <a:xfrm>
            <a:off x="9524880" y="5791320"/>
            <a:ext cx="13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答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2-12-10T06:38:32Z</dcterms:modified>
  <cp:revision>1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