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4764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29600" y="0"/>
            <a:ext cx="914400" cy="83808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7696080" y="0"/>
            <a:ext cx="830520" cy="99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762120"/>
            <a:ext cx="899172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下列哪类商品不允许在淘宝网上出售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A.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箱包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B.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鞋帽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C.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服装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D.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武器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215892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单选题 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 rot="7347000">
            <a:off x="10342440" y="69840"/>
            <a:ext cx="533520" cy="8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7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" name=""/>
          <p:cNvSpPr txBox="1"/>
          <p:nvPr/>
        </p:nvSpPr>
        <p:spPr>
          <a:xfrm rot="10710000">
            <a:off x="9622440" y="3105720"/>
            <a:ext cx="685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新宋体"/>
              </a:rPr>
              <a:t>0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新宋体"/>
              <a:ea typeface="新宋体"/>
            </a:endParaRPr>
          </a:p>
        </p:txBody>
      </p:sp>
      <p:sp>
        <p:nvSpPr>
          <p:cNvPr id="45" name=""/>
          <p:cNvSpPr/>
          <p:nvPr/>
        </p:nvSpPr>
        <p:spPr>
          <a:xfrm>
            <a:off x="9448920" y="1905120"/>
            <a:ext cx="1143000" cy="53316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2600" dir="54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 rot="10694400">
            <a:off x="9627120" y="4471920"/>
            <a:ext cx="7621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x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47" name=""/>
          <p:cNvSpPr/>
          <p:nvPr/>
        </p:nvSpPr>
        <p:spPr>
          <a:xfrm>
            <a:off x="9524880" y="5791320"/>
            <a:ext cx="13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答案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52280" y="762120"/>
            <a:ext cx="899172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下列哪类商品不允许在淘宝网上出售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A.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箱包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B.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鞋帽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C.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服装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ff00"/>
                </a:solidFill>
                <a:uFillTx/>
                <a:latin typeface="黑体"/>
                <a:ea typeface="黑体"/>
              </a:rPr>
              <a:t>D.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黑体"/>
                <a:ea typeface="黑体"/>
              </a:rPr>
              <a:t>武器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215892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单选题 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 rot="7347000">
            <a:off x="2721600" y="3575520"/>
            <a:ext cx="5331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7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" name=""/>
          <p:cNvSpPr txBox="1"/>
          <p:nvPr/>
        </p:nvSpPr>
        <p:spPr>
          <a:xfrm rot="10710000">
            <a:off x="9622440" y="3105720"/>
            <a:ext cx="685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新宋体"/>
              </a:rPr>
              <a:t>0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新宋体"/>
              <a:ea typeface="新宋体"/>
            </a:endParaRPr>
          </a:p>
        </p:txBody>
      </p:sp>
      <p:sp>
        <p:nvSpPr>
          <p:cNvPr id="52" name=""/>
          <p:cNvSpPr/>
          <p:nvPr/>
        </p:nvSpPr>
        <p:spPr>
          <a:xfrm>
            <a:off x="9448920" y="1905120"/>
            <a:ext cx="1143000" cy="53316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2600" dir="54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 rot="10694400">
            <a:off x="9627120" y="4471920"/>
            <a:ext cx="7621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x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54" name=""/>
          <p:cNvSpPr/>
          <p:nvPr/>
        </p:nvSpPr>
        <p:spPr>
          <a:xfrm>
            <a:off x="9524880" y="5791320"/>
            <a:ext cx="13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答案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2-12-10T06:39:48Z</dcterms:modified>
  <cp:revision>1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