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BB89-D8FE-449D-8152-B377CA9AC45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5EA2-7A68-4497-87C3-A10DA0E79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B1F0-14AD-4761-832B-52961839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C15D-29A6-4889-80D5-1A73A710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2C1B-A986-4AB9-887A-C57A0CACB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3B3D-1ED9-4CD2-AEE2-42AC6426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5090-B9BE-4F6A-91F9-A98CEBDB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5552-1C9E-4E02-A6C5-F4D3D062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7CE2-7809-40F8-9575-DC78F642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4227-9451-4943-A470-D4A925D9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D184-B35F-4D71-826A-AB0C7207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3120-5481-4EBC-808E-FACEF744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FD73-36DB-4614-AB5B-85981F9F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1" marL="653760" indent="-2512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2" marL="1005840" indent="-2008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3" marL="1407960" indent="-2008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4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BC72-CB84-4481-914A-ED479D9BC353}" type="slidenum"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692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8560" y="719280"/>
            <a:ext cx="69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动画自定义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1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1297080" cy="12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00000" y="692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8560" y="719280"/>
            <a:ext cx="69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动画自定义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2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4:35Z</dcterms:modified>
  <cp:revision>19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