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99130-90AD-4AD1-A9CB-2610A7B6F85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随便修改、删除、增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保证至少一个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随便修改、删除、增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保证至少一个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随便修改、删除、增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保证至少一个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0881-7105-4990-9628-2AA91FCD4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691E-AC2A-461E-A4A3-D23F46307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4C82-58F7-494F-8351-6ECA0B605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620F-D0C4-4ECD-A319-8E738EED3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757B-C50D-4E7E-9248-F05E64ACD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A73B-4B9A-4F4B-959F-495407ED4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C9AD-C030-48D1-8512-3842B0578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BAEE-EF46-4209-8F83-DE56CC15C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4580-F326-4D9B-BD08-2F24CD1D6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FC0A-D005-47C1-80D2-C73620D0A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DB4D-1EF6-4528-8350-A949B5151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BBA9-BD6A-4F72-8EFB-8B2F47467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370DD-18F3-4383-A450-8290110507F3}" type="slidenum"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2.xml"/><Relationship Id="rId10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2.xml"/><Relationship Id="rId10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1828440"/>
            <a:ext cx="9144000" cy="259092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>
                  <a:alpha val="0"/>
                </a:srgbClr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</a:rPr>
              <a:t>赞助单位</a:t>
            </a:r>
            <a:endParaRPr b="0" lang="en-US" sz="6000" spc="-1" strike="noStrike">
              <a:solidFill>
                <a:srgbClr val="ffffff"/>
              </a:solidFill>
              <a:latin typeface="黑体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-396720" y="0"/>
            <a:ext cx="1647720" cy="17733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812000" y="5589720"/>
            <a:ext cx="166392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-396720" y="0"/>
            <a:ext cx="1647720" cy="17733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7812000" y="5589720"/>
            <a:ext cx="1663920" cy="14857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80880" y="1438200"/>
            <a:ext cx="8062920" cy="35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中国航天科技集团公司第六研究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中国航天科技集团公司行易软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西安和谐网络科技有限责任公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西安祺创太阳能科技有限公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陕西神光新能源科技有限公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西安航天远征流体控制股份有限公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-396720" y="0"/>
            <a:ext cx="1647720" cy="1773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7812000" y="5589720"/>
            <a:ext cx="1663920" cy="14857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80880" y="1438200"/>
            <a:ext cx="861084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陕西铭越信息科技有限公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西安航天华阳印刷包装设备有限公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中国航天科技集团公司第四研究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中国航天科技集团公司第五研究院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504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中国兵器工业集团公司第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206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研究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陕西天惠科技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集团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公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行易软件</dc:creator>
  <dc:description/>
  <dc:language>en-US</dc:language>
  <cp:lastModifiedBy>行易软件 http://www.ExeSoft.cn</cp:lastModifiedBy>
  <dcterms:modified xsi:type="dcterms:W3CDTF">2014-08-15T06:03:22Z</dcterms:modified>
  <cp:revision>33</cp:revision>
  <dc:subject/>
  <dc:title>自定义文件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