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34C6-05B8-4383-859E-920A4F500E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382-C203-4523-94FE-6320C211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0D7-D97B-4CDB-B11A-74F762A4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877-E4EB-464D-A4BA-310FF9BC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1F0-6091-4B25-9690-2B2CA20C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210-26A3-4782-BEFC-11BCD2B0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800-8DEE-4B80-92CA-06043DCC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274-0ED3-4426-AC07-4087E026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F3A-7263-42EC-AEBE-8FCDBE51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B15-7493-4CE6-A71A-E40562F5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D4A-5C3D-49AD-9145-A9287D33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88D-F3B1-405C-A1F0-5FE37059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884-3CB3-4A0E-A4FC-F891E4CF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6656-5BFD-4696-872B-4BB4420E74E6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68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导出新风采  游出全世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68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传承导游文化  美丽智慧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0020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华夏风光世无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如诗如画游家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揽众山水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阅古今之事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      一口之才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将游历道说 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好山好水家乡美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          尽心尽责导八方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30Z</dcterms:modified>
  <cp:revision>20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