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E5E5-6428-4FBD-8ED3-0C22839173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583-DBB4-4D26-9D27-5895875B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FEA-E271-49F2-8485-1D177A16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DDE-55C8-4E97-833A-E6D82379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779-808E-4BD0-ADD1-A5A79FF7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E43-52F9-4508-B8AC-BE77844F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65C-0569-4CFB-8D21-73A5EC5F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7EB-6BAE-44ED-8087-7ECDB261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2C8-2A35-48C2-9798-97446A10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4A1-3708-40F1-B1C4-33871AC1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7CF-8A8A-4C62-956F-2CFFB42B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6CB-BA5C-4ADA-B47F-774100F9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C82-AEAB-421B-AA99-646BAAD3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4C0F-7C18-4C5A-A3AD-D8BC5D7B53A0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采用百分制，选手满分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专家评审团，去掉一个最高分及一个最低分后的剩余评委的平均值，再取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8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大众评审团打分总分占选手最终实际总分的权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众评审团每位成员有三张打分牌：优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良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一般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620640"/>
            <a:ext cx="67690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位选手演讲完毕后，大众评审团当场亮分，大会主持分别宣布优秀、良好、一般票数。举牌即为有效分数，不举牌即视为弃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有效票数，计算大众评审团总分，除以有效票数相应的满分总分，再乘以大众评审团占选手最终实际总分的满分权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，即为该选手大众评审团部分的最终得分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保留小数点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14Z</dcterms:modified>
  <cp:revision>1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