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6361-FACE-4732-B49F-ABD99A3A5A1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39C9-DC61-4E1A-97A6-B6D7830A1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A060-E6E0-4955-9BCE-F690848F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9924-1852-4316-84AC-3F27681D5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A3D3-1906-4040-B570-85279BE68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CC18-BAC6-4B53-A178-4612382B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5745-ABED-4337-98EA-0BAC40E7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3147-2435-48A1-ACBD-6FAD66E8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2892-1CC5-4650-B9D0-6036C83E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3EFE-4F29-4815-9B51-CD0886BC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85A4-8047-4C77-AC46-1A834252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F20C-19CF-49CB-A337-C254B403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531A-A119-49B8-83FF-109B7340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1" marL="653760" indent="-2512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2" marL="1005840" indent="-2008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3" marL="1407960" indent="-2008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4" marL="1810440" indent="-200880">
              <a:spcBef>
                <a:spcPts val="1001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B204-7A61-48C5-B255-200E970B3C69}" type="slidenum"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2133720"/>
            <a:ext cx="7848720" cy="21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通知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比赛结束后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领队管理好自己的队员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请循就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4:23Z</dcterms:modified>
  <cp:revision>14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