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0CC7-DCEB-45E4-AF3A-F71F2E44BCA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后面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抽签结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抽签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7C84-E6A8-4AC3-BF38-54964E849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5505-82B2-4406-93D7-28C2B105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79FB-A768-43AD-A15C-461ECA21B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F582-8012-46EF-BF78-193450F66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BE3D-5C0F-42E7-9817-96FBB66C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A714-FA06-4EAD-B903-74F869CE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DDF3-6F62-4668-9409-5DCB34CF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801A-6153-4B56-ABB6-A1FC3A4D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D0C4-3B57-4FD8-B345-D1D50BC1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C27F-C5C4-45D9-990C-80EBFF82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34A7-F7D8-41EE-AE9F-1CB41315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EBD8-32FA-4094-84C6-3A90ECCF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C2EF-F8DD-4E3B-9FA7-CC0CAFC9500C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抽签结果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6937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04840" y="69048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48240" y="690480"/>
            <a:ext cx="3527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14670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04840" y="146196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48240" y="146052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22399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04840" y="224460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224460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30132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04840" y="3013200"/>
            <a:ext cx="4343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48240" y="3013200"/>
            <a:ext cx="35384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37861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04840" y="378288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48240" y="378288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45594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04840" y="454644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48240" y="454968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53323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04840" y="532440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48240" y="532116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61056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04840" y="6093000"/>
            <a:ext cx="4343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48240" y="608472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918720" y="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918720" y="7732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918720" y="1550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918720" y="23194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918720" y="30924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918720" y="38656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918720" y="4638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18720" y="54118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9680" y="0"/>
            <a:ext cx="1052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出场顺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04840" y="0"/>
            <a:ext cx="434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0"/>
            <a:ext cx="3527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选送单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/>
  <dc:description/>
  <cp:keywords/>
  <dc:language>en-US</dc:language>
  <cp:lastModifiedBy>行易软件 http://www.ExeSoft.cn</cp:lastModifiedBy>
  <dcterms:modified xsi:type="dcterms:W3CDTF">2013-07-14T09:45:19Z</dcterms:modified>
  <cp:revision>176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