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803E-D55F-46F2-988A-FD9F5EA9E38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幻灯展示选手照片，照片框位于可视界面之内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333360"/>
            <a:ext cx="2016360" cy="29512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404640"/>
            <a:ext cx="1944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04640"/>
            <a:ext cx="36748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781440" y="4724280"/>
            <a:ext cx="3565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2720"/>
            <a:ext cx="9144000" cy="2421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 Black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56720" y="3789360"/>
            <a:ext cx="457200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3:26:44Z</dcterms:modified>
  <cp:revision>521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