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Rank" id="1">
      <p:sldLst>
        <p:sld r:id="rId7"/>
      </p:sldLst>
    </p:custShow>
    <p:custShow name="ShowBlank" id="2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753CB-6DE9-46C7-87FB-BC8C1922F445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后面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抽签结果主题幻灯。其中唯一的文本框会被打分软件自动填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用户可以随意修改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保证标题文本框层次号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即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抽签结果展示幻灯。里面的文本框及图片框不能删除，但可以随意拖动。此模板要展示选手照片，所以照片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25-32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在可视界面之内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3009-49E6-401F-8BAC-4899C6F43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38CF-0B81-4C8D-9331-E8728B1CD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AD60-9928-4234-82B0-95FFFA0BB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2085-B362-44CB-B074-8D991C864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5974-1694-4499-9A4F-26532AA07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2382-4E75-4BD2-A2E0-65948F0AF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D6F9-159D-4265-B0AC-32F8318AF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A8A7-E835-44F0-8A7F-C355CEA5E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9F21-C69E-4AF9-B227-4814972EF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0A6A-0BE5-4E85-BB29-73EBE5D4E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102E-DF81-42B6-B0B4-271A4D7DF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E4D2-E31B-4096-A1B9-52575E7DF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68ECD-205F-43E7-87EC-22DD3404E89A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76640"/>
            <a:ext cx="9144000" cy="244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抽签结果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6196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2446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0132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7828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54644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3244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904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330120" y="598320"/>
            <a:ext cx="9817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0930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0760" y="693720"/>
            <a:ext cx="900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81280" y="690480"/>
            <a:ext cx="3133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86360" y="690480"/>
            <a:ext cx="41450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60" y="1467000"/>
            <a:ext cx="900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81280" y="1461960"/>
            <a:ext cx="3132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65840" y="1460520"/>
            <a:ext cx="41781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760" y="2239920"/>
            <a:ext cx="900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81280" y="2244600"/>
            <a:ext cx="3133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65840" y="2244600"/>
            <a:ext cx="41781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760" y="3013200"/>
            <a:ext cx="900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81280" y="3013200"/>
            <a:ext cx="3133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965840" y="3013200"/>
            <a:ext cx="41781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760" y="3786120"/>
            <a:ext cx="900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81280" y="3782880"/>
            <a:ext cx="3133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965840" y="3782880"/>
            <a:ext cx="41781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0760" y="4559400"/>
            <a:ext cx="900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81280" y="4546440"/>
            <a:ext cx="3132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965840" y="4549680"/>
            <a:ext cx="41781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0760" y="5332320"/>
            <a:ext cx="900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781280" y="5324400"/>
            <a:ext cx="3132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965840" y="5321160"/>
            <a:ext cx="41781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60" y="6105600"/>
            <a:ext cx="900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81280" y="6093000"/>
            <a:ext cx="3132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965840" y="6084720"/>
            <a:ext cx="41781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03320" y="6904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03320" y="146376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03320" y="224172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03320" y="300996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03320" y="37828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03320" y="45561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03320" y="53290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03320" y="61023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52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3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出场顺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81280" y="0"/>
            <a:ext cx="2789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手信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15080" y="0"/>
            <a:ext cx="4473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送单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 http://www.ExeSoft.cn</cp:lastModifiedBy>
  <dcterms:modified xsi:type="dcterms:W3CDTF">2013-07-14T09:44:18Z</dcterms:modified>
  <cp:revision>166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