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88BD-D057-42F0-A082-0D93DFAEF95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F7D6-C188-45CF-8A71-6AFB4604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B6E1-D078-4B0A-B5A7-669C811B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088-D5D0-48ED-9B19-B8A80D18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A800-02F3-4233-9749-842A4776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D24-CFB6-4BE5-BAFA-55776050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CE1-9873-497E-8AB0-01771D94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864B-FD30-4A9A-AF67-52589860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FEB6-46B9-41CD-B58C-3C97AFFE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826D-8B6E-45AA-A23B-2E5A39C8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B9D-94F8-4597-B1E0-640853B0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63A-8A02-4196-BBA7-F0BB5E53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079-CFF3-4E63-950A-2E733E6F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1B0A-B090-49BE-86DC-EE5B6B3DCA8C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2484360" y="836640"/>
            <a:ext cx="2016000" cy="259236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24000" cy="1341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620640"/>
            <a:ext cx="154800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1-30T08:21:22Z</dcterms:modified>
  <cp:revision>12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