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lay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3B7F-4E92-4094-8612-1566E4D3D0F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选手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选手信息展示幻灯。里面的文本框及图片框不能删除，但可以随意拖动。此模板展示选手照片，所以照片框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F78A-A483-4048-A816-BAA93596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899C-B909-42DC-8EB7-996BCFA1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A736-362E-45BD-A74E-FA439445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C1DA-839C-406A-9DD7-7464C40D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DFA5-B79F-4D56-B1CB-E4BEB922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15FF-85BC-4873-9EA7-325AB6C7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3A5C-FC6E-486C-AC74-5CC8A2A9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50C8-6789-4468-9A8E-6B1734B3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00BD-EBDE-4E2C-90B7-C9125DB0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0D96-FDCA-4AE5-9C08-08C99256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F665-0EE1-441E-B41F-3745A5A4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A12F-6B91-44B4-86FA-E76B192D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0178-0DD2-4C2B-B0A5-CA246AE1F58A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选手参赛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692280"/>
            <a:ext cx="2089080" cy="266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692280"/>
            <a:ext cx="496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及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8000" y="3789360"/>
            <a:ext cx="3097080" cy="1008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117080" y="0"/>
            <a:ext cx="1692360" cy="620640"/>
          </a:xfrm>
          <a:prstGeom prst="foldedCorner">
            <a:avLst>
              <a:gd name="adj" fmla="val 1250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6-12-02T02:52:25Z</dcterms:modified>
  <cp:revision>11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