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600D-FC1E-4973-AE48-1E6758AC79B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展示选手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609-F6D7-4F3E-8612-99B28270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6F1-1164-4E53-9A33-82EE3E16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7FA-C7C1-403E-A774-EB370C31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54B-9925-4016-B5EA-E103FE59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D53-48EC-4FAE-B469-FF941AF1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C5E-EB66-4D18-8955-D1A52AE5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3A4-32F4-4C40-B408-5EB32666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5A2-CF99-4447-883C-0003CD2C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8F9-DB2E-4AD2-94F5-86C22026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8AE-85BA-4FB1-835F-39982E0B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E13-F41E-4D39-9A01-3D26FCB1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F468-C614-4941-95C8-7B6642E4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F186-9BBD-4059-8418-D546E47F7AF1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97080" cy="1008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117080" y="0"/>
            <a:ext cx="1692360" cy="620640"/>
          </a:xfrm>
          <a:prstGeom prst="foldedCorner">
            <a:avLst>
              <a:gd name="adj" fmla="val 1250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0:26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