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A95D-B98E-484C-8478-44EB062AEAE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不展示选手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B74-809C-4ABC-803E-9F5B7B3B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C95-3F12-42FA-88CD-EAF64B49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D1D-A224-4265-8733-90046896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CAD-CE7B-41DE-8A4B-3F8425BC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0E2-9D26-455F-AE80-1372FD3D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7A06-34E9-4A3B-B0E5-E62E07D3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9947-32B7-4602-B55B-9FC085FB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0344-46FE-46A1-ABDB-8401E05C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997-EF07-4C90-B447-064CA7C2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B6A-E36C-4A59-ACED-B0E3214A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155-3797-4CED-AFF7-66F2C583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928-C3F5-4C5E-9000-9225CF50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149E-C0EA-4C29-8C6B-53EDD1AA566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484360" y="765000"/>
            <a:ext cx="2160360" cy="266400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716280"/>
            <a:ext cx="698508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37Z</dcterms:modified>
  <cp:revision>12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