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D1B3-E8D8-4DFA-9B42-BB8D1DCE298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不展示选手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3659-28A2-4579-B3D5-B92B7316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0C24-5A7A-4A21-AD35-650C04DF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046D-2B6F-4D37-8747-F601458F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AB9E-BE04-4FED-B9F4-CB041848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C729-34BF-4A81-B912-351721FA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CF89-6363-45BC-819C-087C2263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B880-8CDC-4B8E-AD6E-6BB191C0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9AED-2322-4F97-B43A-A8F1227D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6ACA-8CC5-4069-B7B2-6BDCE2AB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1A07-1419-4519-8B9E-C0CCCD6D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8260-735B-4172-BA51-4343A189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BD02-35D7-446E-98F1-D89B2EBF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A2BF-6085-4B18-B8D5-548E0A67ED2A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2484360" y="765000"/>
            <a:ext cx="2160360" cy="266400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3716280"/>
            <a:ext cx="698508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37Z</dcterms:modified>
  <cp:revision>12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