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W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9AAB-E842-4CD5-A559-D02FB886FAF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评委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评委信息展示幻灯。里面的文本框及图片框不能删除，但可以随意拖动。此模板展示评委照片，所以照片框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679D-2F14-44C3-81B4-8EBBD7032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A7CC-5C69-4E9C-887B-0F3C4FC6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D538-5FED-4703-A8BA-BD901FCD1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9E3A-D221-424A-8D2C-519D25F7A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B4A3-72B6-4D15-B3C5-C425C464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5F4C-AB0A-45CC-8E81-D5F533C9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1E00-9AD3-4172-879B-FFDEAED2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D6B8-0425-4B45-8292-2E85DD7F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67D3-C983-4A0B-91CB-8A83EDA9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D6AD-0C77-4823-AD9E-77445D29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D321-213B-4B09-8867-AC1CA105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8B6D-7DE6-47B1-BFE3-4FBF4814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F893-8C5C-421F-8F5B-764E0F3A9CE7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专家评委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692280"/>
            <a:ext cx="2089080" cy="266364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3640" y="692280"/>
            <a:ext cx="49687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评委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3716280"/>
            <a:ext cx="720072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评委描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28T11:16:22Z</dcterms:modified>
  <cp:revision>11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