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7319-21F4-4C08-AE8E-5C4D69713FB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6364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3664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1124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124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1448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1448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2276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2276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2744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2744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3068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3068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3572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3572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3896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3896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4400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4400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61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61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9164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164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77308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77308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85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85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933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933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97492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9749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5520" y="-2187720"/>
            <a:ext cx="115092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3340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7332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0356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180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4168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5136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8160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128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2152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4908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10080"/>
            <a:ext cx="914400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734080"/>
            <a:ext cx="5867280" cy="719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84360" y="7966080"/>
            <a:ext cx="31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0536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6364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0" y="-420372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91636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685800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7:59Z</dcterms:modified>
  <cp:revision>664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